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7.png" ContentType="image/png"/>
  <Override PartName="/ppt/media/image1.jpeg" ContentType="image/jpeg"/>
  <Override PartName="/ppt/media/image28.png" ContentType="image/png"/>
  <Override PartName="/ppt/media/image5.png" ContentType="image/png"/>
  <Override PartName="/ppt/media/image30.png" ContentType="image/png"/>
  <Override PartName="/ppt/media/image10.jpeg" ContentType="image/jpeg"/>
  <Override PartName="/ppt/media/image14.png" ContentType="image/png"/>
  <Override PartName="/ppt/media/image9.wmf" ContentType="image/x-wmf"/>
  <Override PartName="/ppt/media/image11.gif" ContentType="image/gif"/>
  <Override PartName="/ppt/media/image27.png" ContentType="image/png"/>
  <Override PartName="/ppt/media/image12.wmf" ContentType="image/x-wmf"/>
  <Override PartName="/ppt/media/image13.png" ContentType="image/png"/>
  <Override PartName="/ppt/media/image31.png" ContentType="image/png"/>
  <Override PartName="/ppt/media/image6.png" ContentType="image/png"/>
  <Override PartName="/ppt/media/image29.png" ContentType="image/png"/>
  <Override PartName="/ppt/media/image8.wmf" ContentType="image/x-wmf"/>
  <Override PartName="/ppt/media/image4.jpeg" ContentType="image/jpeg"/>
  <Override PartName="/ppt/media/image32.png" ContentType="image/png"/>
  <Override PartName="/ppt/media/image2.png" ContentType="image/png"/>
  <Override PartName="/ppt/media/image25.png" ContentType="image/png"/>
  <Override PartName="/ppt/media/image3.png" ContentType="image/png"/>
  <Override PartName="/ppt/media/image26.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43C9-3592-4086-A898-C7B0AEA2E8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AC2C-912D-4181-B89D-28083146F30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s to teacher recrui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7F4C-1316-406D-B034-851C42BDE40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s to recruitment/retention questions</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0538-5736-4D6A-9FF7-E2595710E95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5-4: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reflect individually on the document for your area – I’ve included all the areas in the packet so you can see the various solutions from different contents – highlight on the document – make notes – thinking about what’s there that’s good – what might need an upgrade – what is m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move to your 4 corners -  discuss your findings – tell us what you still need – this may require some attention to what’s in CMapp</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41E4-D237-4142-95A0-5465C8EC261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25-4:30</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057C-52E4-42C8-AF6A-E7978E7B3732}"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0-4: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nstorm – full group – prompt questions – infrastructure … existing models - </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2194-AD00-4845-A640-8E264327D66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5-4:45 - gain clarity on gathering performance data for Standard 6 on the Teacher Evaluation Instr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letter from Rebecca Garland dated 9/13/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DDADE-6858-4530-B9F0-DE8DEB2836C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5-4:50 - Understand the need for secondary participation in district-wide initiatives such as Pieces of Gold/Gifts of Gold, WCPSS displays, (Wake Ed Partnership, United Arts, CORA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30 years – we’ve showcased the exceptional work of the arts classroom on the stage &amp; Memorial Auditorium – the business community cites it as an important part of what is great about Wake County Public Schools but the benefits for us internally include secondary students serving as positive role models for the younger performers which helps with recruitment &amp; retention, it demonstrates the powerful sequencing of arts instruction and helps the Wake Education Partnership who provide business support for the community but also real cash in the form of teacher grants and beginning with last year they designated an Arts Education category – last year they gave 3 grants of $3000 each specifically for the 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20 years we’ve celebrated the visual arts with Gifts of Gold – each visual art teacher is invited to submit one work of art to be adjudicated and then displayed during dress rehearsal &amp; the day of the PoG performance.  The City of Raleigh Arts Commission co-sponsors Gifts of Gold and provides adjudicators from the community of professional artists.  These organizations help us tell our story – in a way that others can hear &amp; understand – sometimes better than we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Arts Council is an invaluable resource for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write yourself a note – what is your action step to increase your school’s involvement with PoG or GoG?  You’ll get an email reminder following this meeting to prompt you towards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B801-E3B8-45A9-ABDF-70282EACD84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30-3: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schools your administrators may have introduced you to Carol Dweck who has written extensively about the value of a growth mindset vs a fixed mindset. Every so often a truly groundbreaking idea comes along. This is one. Mindset explai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brains and talent don’t bring suc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can stand in the way of 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praising brains and talent doesn’t foster self-esteem and accomplishment, but jeopardizes the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eaching a simple idea about the brain raises grades and productiv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ll great CEOs, parents, teachers, athletes k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fixed mindset, people believe their basic qualities, like their intelligence or talent, are simply fixed traits. They spend their time documenting their intelligence or talent instead of developing them. They also believe that talent alone creates success—without effort. They’re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growth mindset, people believe that their most basic abilities can be developed through dedication and hard work—brains and talent are just the starting point. This view creates a love of learning and a resilience that is essential for great accomplishment. Virtually all great people have had these qual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ing a growth mindset creates motivation and productivity in the worlds of business, education, and sports. It enhances relationships. When you read Mindset, you’ll see how.</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1A20-3E8B-4424-9514-45AE9EB6FCF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0-4:51</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0313-9772-472B-AED5-94745E65F16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1-4:52  Make sure you plan your trips within the guidelines established at your school – provide your school-based committee with all the pertinent information in a timely fashion – make sure to include the City/State if out-of-district.  It is important to identify a finite number of participants.  Do not put an estimate or a range.  In the event your numbers are determined by audition, assume that all your students will qualify.  </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50A9-62F9-4D0C-A616-0A17613817E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2-4:53</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1C718-B3BD-4DF6-9B37-FBF480E1FA82}"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3-4:55 We’ve been reviewing the Phase IV lessons you’ve contributed and they are great!  We originally set it up for you to post these in a specific folder (e.g. secondary visual art) but it seems most people are just posting to the Arts Ed Common Core Group – that’s fine – Jim is working to move them over to exemplary lessons on the Arts Ed Wik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aking of the wiki – today’s PPT will be posted to the wiki – feel free to access it and share with your departmental colleagues</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2C2D-79DE-4EDC-A029-82344B8AC4E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5-5:00   As always – I respect the extensive after-school schedules that arts teachers keep and will limit our department chair meetings to the dates listed.  If the meeting is designed to be ‘virtual’ All our Face-to-Face meetings will be held @ Dillard Drive Middle School from 3:30-5:30.  Because I have been placed on the Effective Teaching Framework team – I will be delivering Professional Development to principals on 2/18 so we’ll convert that meeting to Virtual.  That means I’ll send you a Powerpoint with notes to share with your colleagues.  It will likely have a google doc/survey/wiki discussion board post that will be a way for you to share with each other and a way to verify your participation for your princip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r exit ticket – please list items you’d like to address in these Dept Chair Meetings on an index card and drop them in the basket on the way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s so much for your participation today.  Remember to make sure you’ve signed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B060-BE6D-42C9-BBBA-2AB5E549994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responses to Future Topics</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219E-9B21-4356-956B-9215FA0F2B9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responses to future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1014-0012-461A-8973-56D39E4D155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33-3:4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year – we’re going to work towards building a growth mindset as part of supporting our leadership capabilities.  </a:t>
            </a:r>
            <a:endParaRPr b="0" lang="en-US" sz="1200" spc="-1" strike="noStrike">
              <a:solidFill>
                <a:srgbClr val="000000"/>
              </a:solidFill>
              <a:latin typeface="Calibri"/>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approach a challenge, that voice might say to you “Are you sure you can do it? Maybe you don’t have the talent.” “What if you fail—you’ll be a failure” “People will laugh at you for thinking you had talent.” “If you don’t try, you can protect yourself and keep your dignity.”</a:t>
            </a:r>
            <a:endParaRPr b="0" lang="en-US" sz="1200" spc="-1" strike="noStrike">
              <a:solidFill>
                <a:srgbClr val="000000"/>
              </a:solidFill>
              <a:latin typeface="Calibri"/>
            </a:endParaRPr>
          </a:p>
          <a:p>
            <a:pPr>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it a setback, the voice might say, “This would have been a snap if you really had talent.” “You see, I told you it was a risk. Now you’ve gone and shown the world how limited you are.” “ It’s not too late to back out, make excuses, and try to regain your dignity.”</a:t>
            </a: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face criticism, you might hear yourself say, “It’s not my fault. It was something or someone else’s fault.” You might feel yourself getting angry at the person who is giving you feedback. “Who do they think they are? I’ll put them in their place.” The other person might be giving you specific, constructive feedback, but you might be hearing them say “I’m really disappointed in you. I thought you were capable but now I see you’re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approach a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XED-MINDSET says “Are you sure you can do it? Maybe you don’t have the t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TH-MINDSET answers, “I’m not sure I can do it now, but I think I can learn to with time and eff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MINDSET: “What if you fail—you’ll be a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MINDSET: “Most successful people had failures along th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MINDSET: “If you don’t try, you can protect yourself and keep your dig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MINDSET: “If I don’t try, I automatically fail. Where’s the dignity in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hit a set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MINDSET: “This would have been a snap if you really had t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MINDSET: “That is so wrong. Basketball wasn’t easy for Michael Jordan and science wasn’t easy for Thomas Edison. They had a passion and put in tons of eff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face critic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XED MINDSET: “It’s not my fault. It was something or someone else’s 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MINDSET: “If I don’t take responsibility, I can’t fix it. Let me listen—however painful it is– and learn whatever I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dset action - take on the challenge wholehearte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 from your setbacks and try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 the criticism and act on it is now in your ha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 where you are – I’m going to lead you through a movement exercise – First I want you to stand very firm – grounded – shoulders down – chin out – start with your arms folded – think about the areas in your life where a fixed mindset has stumped you.  Now clench your fist – creating a great amount of tension – now begin to pull apart the tension – as you open your arms stretch wide – notice your breathing – try to expand it – reach out – reach up – slowly move your head side to side (ear to shoulder) – roll your head in the front (not the back) breathe and collapse rolling your spine – as you continue to stretch, try to reflect on a time where a growth mindset moved you forward.  Where you learned from a mistake.  Filled with that confidence &amp; willingness to stretch let’s regroup by hemisphe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399E-593A-4D40-A6A2-1381122882A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0-3: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n’t already done so - Please make sure that you sign in &amp; help us update the department chair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I want you to regroup into Middle &amp; High – once you’re in your groups – turn to a pair or trio introduce yourself &amp; share something positive that happened in class today.  (2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 want you to regroup into 4 corner – VA/M/D/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a warm-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energized -  let’s return to your seats and address the objectives for our meeting.</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0EC9-36B1-4E31-89DB-C53E645C44B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0-3:55</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DB2D-6FEA-48E0-82E7-6ED1A966BEE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5-4:00  As arts educators we know that students who participate in the arts develop the discipline to remain focused, the higher order thinking skills to manage complex material, and commitment to excellence that goes hand-in-hand with high school graduation.  If we look at who is in your classroom we’ll likely find students who – for the most part – are academically successful, curious risk-takers, and have parental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verse of course would be that students who struggle academically, with low-self-confidence, and limited parental support are not in our arts courses.  If you took a look at the names on an 8</a:t>
            </a:r>
            <a:r>
              <a:rPr b="0" lang="en-US" sz="1200" spc="-1" strike="noStrike" baseline="30000">
                <a:solidFill>
                  <a:srgbClr val="000000"/>
                </a:solidFill>
                <a:latin typeface="Calibri"/>
              </a:rPr>
              <a:t>th</a:t>
            </a:r>
            <a:r>
              <a:rPr b="0" lang="en-US" sz="1200" spc="-1" strike="noStrike">
                <a:solidFill>
                  <a:srgbClr val="000000"/>
                </a:solidFill>
                <a:latin typeface="Calibri"/>
              </a:rPr>
              <a:t> grade retention list – I’d bet you wouldn’t find very many students who engage deeply in the arts.  Why?  They may not be able to select arts electives but if we believe Multiple Intelligences theory – we know the arts provide opportunities for students to gain skill &amp; confidence in areas that are transferrable to their academic classrooms.   There are two tough questions I would challenge you to consider – (1)  have you done anything to encourage their participation (like talking with guidance, principal, …)  or perhaps the harder question – (2) are there specific barriers in your school that discourage access for these students?  (elitism, cost,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 discussed this presentation with a colleague he played ‘devil’s advocate’ and said – how will I respond when teachers say – ‘their classes are full of students who want to be there – who are successful – who want to continue serious study in the arts – if you find additional space, materials, and teachers – sure we can increase our participation to include at-risk students.  While that may be a reality in many situations it is not universally true and we have a moral obligation not to let this be our first response and ‘easy out.’  Let’s reflect on what we can do about it.  We can seek support from the community – think about how many instruments have been donated by groups like  National Pawn, Barry Manilow, Chamber of Commerce just over the last 3 years?  </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1365-4FAF-4E46-89AC-39D75285545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4:05    As we think about the transition between elem &gt; middle &gt; high  - Brainstorm on your post-it notes ways to ramp up accessibility and support success – think of it as recruitment &amp; retention…  then identify what kind of data we should try to gather </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04A9-A6D5-4F44-B656-2A629655540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s on Data Question</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2E4A-D4A8-4D1E-B8E1-9FEBBAAB5F2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ses to Data Question</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F5045-A1BE-4100-B91A-5D8F1276377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EC27A-DA75-40E4-98A5-D865E4A75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D16A4-AFE7-434B-9E75-0E026A808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F0B684-D87C-42A6-A793-06F618E7E0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DC7EE3-B76C-4D70-84C6-629913B420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1F5270-9594-4D23-9384-C7EFF8186B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2842D7-DC83-4659-827E-2B6F443EC2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95F7DC-63CA-4855-8CF2-3AAEDE8B1E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AC0FBC-896A-4705-BB4A-7155F8363F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D9B185-5F31-4AEE-BCFE-B600D16C2A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3CBF24-AD70-4CAB-BF2E-BEEBB2227B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2AE91E-D9AF-4C63-943A-579520C6BA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FE7EC-7E2B-4616-AB80-08B53D238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BCA1B-B473-4707-82B6-EA585DEBA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CDA8D-A0FD-4355-9466-0999A51A6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3C200-4D76-4E18-A7DA-4400773F0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69F82-9E01-47B4-AC62-23121AC8A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F7EAC-95E0-441C-84A0-42E9FFD63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91F37-6F75-4345-8D0F-2CEB1A9A9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BB04C-D2A3-4B3A-932F-F02159B66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AF90D-E12C-453D-A727-C31B7352F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D0923-F6BC-4F2D-9B5D-1AD06F784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D28CD-46A6-4EE6-8EFD-125E16692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C5F20-C8D2-47C3-869B-4538096D1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19E82-854A-4BCE-8C15-2BCB7A1D8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BC4D1-20C0-4C12-95B3-706A4777C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56425-D68F-425B-809C-E346733A32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08B106-60B1-4998-B92B-9ECD84F51D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8FBDD9-73E9-4CBA-A474-9A9BAB917D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443334-E3EA-4CAB-820F-F30CDCB801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697830-9315-4A52-8709-E4D4ED561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755A27-4301-4DCD-B8D3-D934DFA51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90AEB-9381-4635-B713-2FDA3717B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813F3-BAB7-4389-86F0-6EDADCFF4A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A035D-D76C-470D-B240-F8DBDD168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0CA623-AB9F-4FDA-876B-DE2213809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50FE9-EEBF-43EA-87B7-BB23CEACC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952EF3-A5EA-4F4E-B887-73A3812B8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E3E1B5-C357-4BB3-BC20-6A705D8096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EE04C2-39CA-455F-835F-F9F4620DB2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BE5A8F-2082-4A75-AB50-8FE2DA3B5E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A12F1D-974D-4954-ACEB-B27A1844C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265ECE-A2B9-4763-BF1C-A9B0320F67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A21B7-4108-4A45-AED7-D3BE87E63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254737-80D1-40DB-9799-7EFC0A706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620B70-74E4-4198-AC2B-E72515A8C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8C64BA-740B-410B-B3C9-52D19219DF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0A99E-6BF9-45A6-B261-B3EBDEE08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12ADFF-96B0-44D8-A210-CBFD3BEE2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B7BBD8-1694-4DF8-B45A-1EA75B228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C64EEF-8A55-4E9B-9992-ECF3AAAADA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C68D8B-60A5-4DCD-B1DA-947EC95000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DF83EC-71A2-4F26-BCA6-CFB0129E0E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5B99D2-967D-4839-B382-41480CDBDA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85022-03FF-424D-9CFF-E0C4335BA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464BE-003B-4022-91F6-AF39BC85FC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A2F732-C473-4F17-9D79-9983F6C1AC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D0252D-3458-4117-8C27-FEF29F6C1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CCBA00-8D37-4640-A246-198E97512F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B911AF-9392-4A5E-8137-3A45833B5C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81B1AC-FFE7-407D-B0AB-A9A30DC01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4B66BA-22D8-4794-810C-3F581C5D1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76E993-B334-411F-9F9B-2D70760F41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E567D2-1923-4D8F-BAD2-E1ACE33C19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EF2716-4986-42B7-ABA4-997E1B4C3D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060D8-EDA1-41A1-B2F3-2B3D1B1C7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22AAA0-CEE0-4A6B-B7D3-CCC4B71167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ECC887-FB6F-486C-91DC-C18300751B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31D9E4-55A8-4A3A-B9B5-CC49FD7F29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CF6C7-CFBE-4E7A-BDFD-17177D44CD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825178-6CEE-4AF4-A62B-850B371EF9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D7D661-8ED6-410D-B608-078221B0D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EA5328-01F2-4FDA-BC89-091F93D80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6AAE5A-1409-4059-A8B9-26801699CC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8C8EC8-ED6E-4F34-9D1B-5E6DD05043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DB2268-5803-4277-8E94-E7EB6305BA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A39B8-B589-4191-9819-A8270C0F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6CE7C6-371B-4C61-B3AD-FB9E373147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B6ABBA-D042-4799-9780-A456A1405C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B4B2CE-687C-4E6B-A32A-BF52F47853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025904-6196-4D03-BAFC-F5AF2920A5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75CCE1-5A96-4BDC-8415-6C9B93A54A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D87B65-D833-474E-99C7-D967AD97E7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C0E41B-8DF3-4183-982E-978028CCE2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9C4D16-0944-43CD-ACEE-5ED59B2365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537122-1619-4663-BFCC-444101257D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E60EEB-99C9-46DA-B469-AAF66D10B5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D9D3A-43E4-48F8-9D37-89FDE52AF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2CF489-3937-4877-89DD-208BB0669C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19A1F-6D15-4653-9D23-781D33CD51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32D72A-FE3D-46DC-BA90-FF51FEB439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6C25C7-6B70-4A9D-B4B6-12256C3698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8B08B9-5352-4229-8E81-14AA60A455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DB5D0F-E1E6-4D4A-84D4-D9805C8479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002AA8-E454-4989-9AED-D186E12646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04E3E6-12F9-4A83-BC1F-0E792C4980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43615B-E939-4F2D-A718-3E58E8EC0C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4E0070-747C-4094-A052-A3F0B940DB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DEFAB-AC74-4855-9A49-BC5F0330B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611625-8C44-49BD-B428-1F025A9011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DC47B5-DAE8-4F13-95F3-511948D95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F95C5-F294-4114-AE8A-16368A0A3A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4C2ABF-35A2-485C-8765-A8DC9C2BB0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2A4827-B8D5-42CB-994B-BE3BFE2037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8751EE-D96B-4DC8-8F22-C02A1774E8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C01151-F211-4629-89E3-5D754C9A04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8E3D35-D32D-42C3-A343-0EDF4C89A4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EE184C-D4A9-4297-86E7-8CCFD07E1C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E5995-A2BA-4C76-9B9C-E1D1909490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49963-EC0F-418B-B55E-EDE9A30CFF2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36DC-4886-4796-8693-ABE870E0B2E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55C9-E3DF-40A1-9440-D6AD93D26C2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B7A1-3402-4888-8B67-1C976CE3A70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CD46-6ADE-4508-AC80-5D269036F13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E9B0A-484F-4ECA-9B5A-028DA1336DED}"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F859-949D-484C-9962-FE7649AF1B8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45A1-4B3E-4595-8E75-27F35BCE78E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46A7-C9BC-4A63-9D0C-11D0C470D036}"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gi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12.wmf"/><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2.wmf"/><Relationship Id="rId3" Type="http://schemas.openxmlformats.org/officeDocument/2006/relationships/image" Target="../media/image26.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12.wmf"/><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image" Target="../media/image11.gif"/><Relationship Id="rId6" Type="http://schemas.openxmlformats.org/officeDocument/2006/relationships/image" Target="../media/image12.wmf"/><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182520" y="0"/>
            <a:ext cx="4865760" cy="4363920"/>
          </a:xfrm>
          <a:prstGeom prst="rect">
            <a:avLst/>
          </a:prstGeom>
          <a:ln w="0">
            <a:noFill/>
          </a:ln>
        </p:spPr>
      </p:pic>
      <p:sp>
        <p:nvSpPr>
          <p:cNvPr id="407" name="PlaceHolder 1"/>
          <p:cNvSpPr>
            <a:spLocks noGrp="1"/>
          </p:cNvSpPr>
          <p:nvPr>
            <p:ph type="subTitle"/>
          </p:nvPr>
        </p:nvSpPr>
        <p:spPr>
          <a:xfrm>
            <a:off x="2452680" y="3885840"/>
            <a:ext cx="6510240" cy="2133720"/>
          </a:xfrm>
          <a:prstGeom prst="rect">
            <a:avLst/>
          </a:prstGeom>
          <a:noFill/>
          <a:ln w="0">
            <a:noFill/>
          </a:ln>
        </p:spPr>
        <p:txBody>
          <a:bodyPr anchor="b">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443329"/>
                </a:solidFill>
                <a:latin typeface="Franklin Gothic Book"/>
              </a:rPr>
              <a:t>Welcome</a:t>
            </a:r>
            <a:endParaRPr b="0" lang="en-US" sz="3800" spc="-1" strike="noStrike">
              <a:solidFill>
                <a:srgbClr val="4e3b30"/>
              </a:solidFill>
              <a:latin typeface="Franklin Gothic Boo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3329"/>
                </a:solidFill>
                <a:latin typeface="Franklin Gothic Book"/>
              </a:rPr>
              <a:t>Please Sign In</a:t>
            </a:r>
            <a:endParaRPr b="0" lang="en-US" sz="3200" spc="-1" strike="noStrike">
              <a:solidFill>
                <a:srgbClr val="4e3b30"/>
              </a:solidFill>
              <a:latin typeface="Franklin Gothic Book"/>
            </a:endParaRPr>
          </a:p>
        </p:txBody>
      </p:sp>
      <p:sp>
        <p:nvSpPr>
          <p:cNvPr id="408" name="TextBox 3"/>
          <p:cNvSpPr/>
          <p:nvPr/>
        </p:nvSpPr>
        <p:spPr>
          <a:xfrm>
            <a:off x="1087200" y="556272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9/17/13</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109440" y="457200"/>
            <a:ext cx="8882280" cy="1000080"/>
          </a:xfrm>
          <a:prstGeom prst="rect">
            <a:avLst/>
          </a:prstGeom>
          <a:ln w="0">
            <a:noFill/>
          </a:ln>
        </p:spPr>
      </p:pic>
      <p:sp>
        <p:nvSpPr>
          <p:cNvPr id="433" name=""/>
          <p:cNvSpPr txBox="1"/>
          <p:nvPr/>
        </p:nvSpPr>
        <p:spPr>
          <a:xfrm>
            <a:off x="0" y="1142640"/>
            <a:ext cx="9144000" cy="5715000"/>
          </a:xfrm>
          <a:prstGeom prst="rect">
            <a:avLst/>
          </a:prstGeom>
          <a:noFill/>
          <a:ln w="0">
            <a:noFill/>
          </a:ln>
        </p:spPr>
        <p:txBody>
          <a:bodyPr anchor="t">
            <a:normAutofit fontScale="95000"/>
          </a:bodyPr>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Build an Art Track to Run on towards arts career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Ensure that all students get at least one Arts Elective every year</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RTI time that is discipline-based which would allow for some students to get a brief exposure</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t the high school level there needs to be beginning classes in every arts discipline</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I can help schedulers target students who have had NO art experience be assigned to Fine Arts classes.  This could help with recruitment &amp; retention of students </a:t>
            </a:r>
            <a:r>
              <a:rPr b="0" i="1" lang="en-US" sz="1400" spc="-1" strike="noStrike">
                <a:solidFill>
                  <a:srgbClr val="4e3b30"/>
                </a:solidFill>
                <a:latin typeface="Franklin Gothic Book"/>
              </a:rPr>
              <a:t>(who wrote this so we can benefit from your expertise?)</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General course for less focused student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ore teachers – space – all type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Offer assemblies throughout the year to showcase your art to the whole school</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ork to create aligned classes within Middle School that include arts in the common core</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Expand access to the arts by offering more electives – create a master schedule to offer more electives to all </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ake class accessible to students not assigned to arts class (weekly reward)</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lubs after school </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fter school students with emotional challenges after school with arts &amp; social worker</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orkshop for “non-arts’ teachers to incorporate arts into classroom</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Streamline program from MS&gt;HS to allow more advanced kids to move up &amp; open more seats in beginning (ArtI)</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Removing the need for students to pay to take arts classes in high school</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ore general course description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School show open to all – commit &amp; you’re in – not necessarily in clas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ontests</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ore input into student scheduling</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S night – mentoring a MS Band – w/ High School Students helping, teaching, guiding</a:t>
            </a: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a:p>
            <a:pPr marL="325800" indent="-32580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9440" y="457200"/>
            <a:ext cx="8882280" cy="1000080"/>
          </a:xfrm>
          <a:prstGeom prst="rect">
            <a:avLst/>
          </a:prstGeom>
          <a:ln w="0">
            <a:noFill/>
          </a:ln>
        </p:spPr>
      </p:pic>
      <p:sp>
        <p:nvSpPr>
          <p:cNvPr id="435" name=""/>
          <p:cNvSpPr txBox="1"/>
          <p:nvPr/>
        </p:nvSpPr>
        <p:spPr>
          <a:xfrm>
            <a:off x="0" y="1218960"/>
            <a:ext cx="9144000" cy="5638680"/>
          </a:xfrm>
          <a:prstGeom prst="rect">
            <a:avLst/>
          </a:prstGeom>
          <a:noFill/>
          <a:ln w="0">
            <a:noFill/>
          </a:ln>
        </p:spPr>
        <p:txBody>
          <a:bodyPr anchor="t">
            <a:normAutofit/>
          </a:bodyPr>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Previous art experience – feeder schools – extra-curricular group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entor through the art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Talk to dean / 8</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grade art teacher to place in 9</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art clas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Establish open relationship w/ middle school feeder (whole school not just arts program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Open performance from school</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Branding, create a culture &amp; identify within the community</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e need to make the arts more visible by letting what we do flow into the community</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Exhibit student work at local banks, shops, etc. (</a:t>
            </a:r>
            <a:r>
              <a:rPr b="0" i="1" lang="en-US" sz="1400" spc="-1" strike="noStrike">
                <a:solidFill>
                  <a:srgbClr val="4e3b30"/>
                </a:solidFill>
                <a:latin typeface="Franklin Gothic Book"/>
              </a:rPr>
              <a:t>also share these ideas in PLT</a:t>
            </a:r>
            <a:r>
              <a:rPr b="0" lang="en-US" sz="1400" spc="-1" strike="noStrike">
                <a:solidFill>
                  <a:srgbClr val="4e3b30"/>
                </a:solidFill>
                <a:latin typeface="Franklin Gothic Book"/>
              </a:rPr>
              <a:t>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9th grade teacher communicate with 8</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grade teacher </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Offer multiple sections of beginning levels (high school)</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rts electives in ALL middle schools – need chorus, dance, theatre, in addition to Band – put chorus &amp; drama in the middle school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Offer fundraising for those having difficulty affording fee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Performing for students in feeder programs – specifically in 5</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amp; 8</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grade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reate extra entry level section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ork with administration to create arts opportunities for at-risk kids </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Lunch bunch</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lub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rtspark</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Reteach elements principles in sculpture I so anyone can participate </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Take chorus to middle feeder to encourage 8</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graders to come to chorus</a:t>
            </a:r>
            <a:endParaRPr b="0" lang="en-US"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Title 1" descr=""/>
          <p:cNvPicPr/>
          <p:nvPr/>
        </p:nvPicPr>
        <p:blipFill>
          <a:blip r:embed="rId1"/>
          <a:stretch/>
        </p:blipFill>
        <p:spPr>
          <a:xfrm>
            <a:off x="109440" y="457200"/>
            <a:ext cx="8882280" cy="1000080"/>
          </a:xfrm>
          <a:prstGeom prst="rect">
            <a:avLst/>
          </a:prstGeom>
          <a:ln w="0">
            <a:noFill/>
          </a:ln>
        </p:spPr>
      </p:pic>
      <p:sp>
        <p:nvSpPr>
          <p:cNvPr id="437" name=""/>
          <p:cNvSpPr txBox="1"/>
          <p:nvPr/>
        </p:nvSpPr>
        <p:spPr>
          <a:xfrm>
            <a:off x="-360" y="1554120"/>
            <a:ext cx="8991720" cy="4525920"/>
          </a:xfrm>
          <a:prstGeom prst="rect">
            <a:avLst/>
          </a:prstGeom>
          <a:noFill/>
          <a:ln w="0">
            <a:noFill/>
          </a:ln>
        </p:spPr>
        <p:txBody>
          <a:bodyPr anchor="t">
            <a:normAutofit fontScale="90000"/>
          </a:bodyPr>
          <a:p>
            <a:pPr marL="308520" indent="-308520">
              <a:spcBef>
                <a:spcPts val="85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e3b30"/>
                </a:solidFill>
                <a:latin typeface="Franklin Gothic Book"/>
              </a:rPr>
              <a:t>Results from Document Team (April 2013)</a:t>
            </a:r>
            <a:endParaRPr b="0" lang="en-US" sz="3400" spc="-1" strike="noStrike">
              <a:solidFill>
                <a:srgbClr val="4e3b30"/>
              </a:solidFill>
              <a:latin typeface="Franklin Gothic Book"/>
            </a:endParaRPr>
          </a:p>
          <a:p>
            <a:pPr lvl="1" marL="668520" indent="-257040">
              <a:spcBef>
                <a:spcPts val="700"/>
              </a:spcBef>
              <a:spcAft>
                <a:spcPts val="1199"/>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elf-reflection </a:t>
            </a:r>
            <a:endParaRPr b="0" lang="en-US" sz="2800" spc="-1" strike="noStrike">
              <a:solidFill>
                <a:srgbClr val="4e3b30"/>
              </a:solidFill>
              <a:latin typeface="Franklin Gothic Book"/>
            </a:endParaRPr>
          </a:p>
          <a:p>
            <a:pPr lvl="1" marL="668520" indent="-257040">
              <a:spcBef>
                <a:spcPts val="700"/>
              </a:spcBef>
              <a:spcAft>
                <a:spcPts val="1199"/>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ghlights (good, needs upgrade, gaps)</a:t>
            </a:r>
            <a:endParaRPr b="0" lang="en-US" sz="2800" spc="-1" strike="noStrike">
              <a:solidFill>
                <a:srgbClr val="4e3b30"/>
              </a:solidFill>
              <a:latin typeface="Franklin Gothic Book"/>
            </a:endParaRPr>
          </a:p>
          <a:p>
            <a:pPr lvl="1" marL="668520" indent="-2570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group for a standing meeting (4 corners) </a:t>
            </a:r>
            <a:endParaRPr b="0" lang="en-US" sz="2800" spc="-1" strike="noStrike">
              <a:solidFill>
                <a:srgbClr val="4e3b30"/>
              </a:solidFill>
              <a:latin typeface="Franklin Gothic Book"/>
            </a:endParaRPr>
          </a:p>
          <a:p>
            <a:pPr lvl="2" marL="1028520" indent="-20556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iscuss what you’ve have – what we still need – and jot down a recommendation (email it today would be great!)</a:t>
            </a:r>
            <a:endParaRPr b="0" lang="en-US" sz="2400" spc="-1" strike="noStrike">
              <a:solidFill>
                <a:srgbClr val="4e3b30"/>
              </a:solidFill>
              <a:latin typeface="Franklin Gothic Book"/>
            </a:endParaRPr>
          </a:p>
          <a:p>
            <a:pPr lvl="1" marL="668520" indent="-2570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omething else beyond documents?  </a:t>
            </a:r>
            <a:endParaRPr b="0" lang="en-US" sz="2800" spc="-1" strike="noStrike">
              <a:solidFill>
                <a:srgbClr val="4e3b30"/>
              </a:solidFill>
              <a:latin typeface="Franklin Gothic Book"/>
            </a:endParaRPr>
          </a:p>
          <a:p>
            <a:pPr lvl="2" marL="1028520" indent="-20556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sations, training, administrative/guidance support</a:t>
            </a:r>
            <a:endParaRPr b="0" lang="en-US" sz="2400" spc="-1" strike="noStrike">
              <a:solidFill>
                <a:srgbClr val="4e3b30"/>
              </a:solidFill>
              <a:latin typeface="Franklin Gothic Book"/>
            </a:endParaRPr>
          </a:p>
        </p:txBody>
      </p:sp>
      <p:pic>
        <p:nvPicPr>
          <p:cNvPr id="438" name="Picture 3" descr="C:\Users\egrimes-droessler\AppData\Local\Microsoft\Windows\Temporary Internet Files\Content.IE5\GMWL55EL\MC900310998[1].wmf"/>
          <p:cNvPicPr/>
          <p:nvPr/>
        </p:nvPicPr>
        <p:blipFill>
          <a:blip r:embed="rId2"/>
          <a:stretch/>
        </p:blipFill>
        <p:spPr>
          <a:xfrm>
            <a:off x="7848720" y="76320"/>
            <a:ext cx="1019160" cy="99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1" descr=""/>
          <p:cNvPicPr/>
          <p:nvPr/>
        </p:nvPicPr>
        <p:blipFill>
          <a:blip r:embed="rId1"/>
          <a:stretch/>
        </p:blipFill>
        <p:spPr>
          <a:xfrm>
            <a:off x="109440" y="457200"/>
            <a:ext cx="8882280" cy="1000080"/>
          </a:xfrm>
          <a:prstGeom prst="rect">
            <a:avLst/>
          </a:prstGeom>
          <a:ln w="0">
            <a:noFill/>
          </a:ln>
        </p:spPr>
      </p:pic>
      <p:sp>
        <p:nvSpPr>
          <p:cNvPr id="440" name=""/>
          <p:cNvSpPr txBox="1"/>
          <p:nvPr/>
        </p:nvSpPr>
        <p:spPr>
          <a:xfrm>
            <a:off x="304920" y="1554120"/>
            <a:ext cx="8686800" cy="4525920"/>
          </a:xfrm>
          <a:prstGeom prst="rect">
            <a:avLst/>
          </a:prstGeom>
          <a:noFill/>
          <a:ln w="0">
            <a:noFill/>
          </a:ln>
        </p:spPr>
        <p:txBody>
          <a:bodyPr anchor="t">
            <a:normAutofit fontScale="79000"/>
          </a:bodyPr>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lignment meetings Mid&gt;High</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now the feeder patterns – List of feeders</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eed help networking</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unselors</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Voice—thread portfolio</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rtwork must be original  (not a derivative) from observation </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3d – additive or subtractive (consideration for going into sculpture 1)</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ny 3 d media</a:t>
            </a:r>
            <a:endParaRPr b="0" lang="en-US" sz="3200" spc="-1" strike="noStrike">
              <a:solidFill>
                <a:srgbClr val="4e3b30"/>
              </a:solidFill>
              <a:latin typeface="Franklin Gothic Book"/>
            </a:endParaRPr>
          </a:p>
          <a:p>
            <a:pPr marL="270720" indent="-27072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Title 1" descr=""/>
          <p:cNvPicPr/>
          <p:nvPr/>
        </p:nvPicPr>
        <p:blipFill>
          <a:blip r:embed="rId1"/>
          <a:stretch/>
        </p:blipFill>
        <p:spPr>
          <a:xfrm>
            <a:off x="109440" y="457200"/>
            <a:ext cx="8882280" cy="1000080"/>
          </a:xfrm>
          <a:prstGeom prst="rect">
            <a:avLst/>
          </a:prstGeom>
          <a:ln w="0">
            <a:noFill/>
          </a:ln>
        </p:spPr>
      </p:pic>
      <p:sp>
        <p:nvSpPr>
          <p:cNvPr id="44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and)Helpful to have access to virtual auditio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horal) 1</a:t>
            </a:r>
            <a:r>
              <a:rPr b="0" lang="en-US" sz="3200" spc="-1" strike="noStrike" baseline="30000">
                <a:solidFill>
                  <a:srgbClr val="4e3b30"/>
                </a:solidFill>
                <a:latin typeface="Franklin Gothic Book"/>
              </a:rPr>
              <a:t>st</a:t>
            </a:r>
            <a:r>
              <a:rPr b="0" lang="en-US" sz="3200" spc="-1" strike="noStrike">
                <a:solidFill>
                  <a:srgbClr val="4e3b30"/>
                </a:solidFill>
                <a:latin typeface="Franklin Gothic Book"/>
              </a:rPr>
              <a:t> 3 bullets from VA – Ditto</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Document is a good beginning to show progress through proces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Title 1" descr=""/>
          <p:cNvPicPr/>
          <p:nvPr/>
        </p:nvPicPr>
        <p:blipFill>
          <a:blip r:embed="rId1"/>
          <a:stretch/>
        </p:blipFill>
        <p:spPr>
          <a:xfrm>
            <a:off x="109440" y="457200"/>
            <a:ext cx="8882280" cy="1000080"/>
          </a:xfrm>
          <a:prstGeom prst="rect">
            <a:avLst/>
          </a:prstGeom>
          <a:ln w="0">
            <a:noFill/>
          </a:ln>
        </p:spPr>
      </p:pic>
      <p:sp>
        <p:nvSpPr>
          <p:cNvPr id="444"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dd a comments section</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ccessiblity – mid&gt;high – to get information (feeder school)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lectronic depository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109440" y="457200"/>
            <a:ext cx="8882280" cy="1000080"/>
          </a:xfrm>
          <a:prstGeom prst="rect">
            <a:avLst/>
          </a:prstGeom>
          <a:ln w="0">
            <a:noFill/>
          </a:ln>
        </p:spPr>
      </p:pic>
      <p:sp>
        <p:nvSpPr>
          <p:cNvPr id="4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ased on LinguaFolio</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NCDPI Think Tank – 10/2</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tudent generated/maintained</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Pilot @ grades 8 &amp; Proficien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Link to Credit by Demonstrated Mastery (CD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upports smooth transitions (Elem&gt;Mid&gt;High)</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47" name="Picture 3" descr=""/>
          <p:cNvPicPr/>
          <p:nvPr/>
        </p:nvPicPr>
        <p:blipFill>
          <a:blip r:embed="rId2"/>
          <a:stretch/>
        </p:blipFill>
        <p:spPr>
          <a:xfrm>
            <a:off x="8088480" y="95400"/>
            <a:ext cx="971280" cy="97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109440" y="457200"/>
            <a:ext cx="8882280" cy="1000080"/>
          </a:xfrm>
          <a:prstGeom prst="rect">
            <a:avLst/>
          </a:prstGeom>
          <a:ln w="0">
            <a:noFill/>
          </a:ln>
        </p:spPr>
      </p:pic>
      <p:graphicFrame>
        <p:nvGraphicFramePr>
          <p:cNvPr id="449" name=""/>
          <p:cNvGraphicFramePr/>
          <p:nvPr/>
        </p:nvGraphicFramePr>
        <p:xfrm>
          <a:off x="338040" y="1138320"/>
          <a:ext cx="8686800" cy="5491080"/>
        </p:xfrm>
        <a:graphic>
          <a:graphicData uri="http://schemas.openxmlformats.org/drawingml/2006/table">
            <a:tbl>
              <a:tblPr/>
              <a:tblGrid>
                <a:gridCol w="4343400"/>
                <a:gridCol w="43434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ranklin Gothic Book"/>
                        </a:rPr>
                        <a:t>Challenges</a:t>
                      </a:r>
                      <a:endParaRPr b="0" lang="en-US" sz="36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Franklin Gothic Book"/>
                        </a:rPr>
                        <a:t>Advantages</a:t>
                      </a:r>
                      <a:endParaRPr b="0" lang="en-US" sz="36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5029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ight-reading piece – keep it original – random bank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Keep it simple &amp; student maintained</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frastructure – access to device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Provide options @ school for those who don’t have access (outdated technology)</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tandard for quality of image (xxx pixels) – neutral background, indirect lighting</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ame for audio)</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Continuity – El&gt;M&gt;H</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eachers need to remain as mentors (technical access – e.g. where is the shared drive – lots of students need lots of support)</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cale of paperwork for E.M.H (pilot for the future artists</a:t>
                      </a: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tudent accountability</a:t>
                      </a:r>
                      <a:endParaRPr b="0" lang="en-US" sz="1800" spc="-1" strike="noStrike">
                        <a:solidFill>
                          <a:srgbClr val="000000"/>
                        </a:solidFill>
                        <a:latin typeface="Franklin Gothic Boo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Clarity &amp; accuracy</a:t>
                      </a:r>
                      <a:endParaRPr b="0" lang="en-US" sz="1800" spc="-1" strike="noStrike">
                        <a:solidFill>
                          <a:srgbClr val="000000"/>
                        </a:solidFill>
                        <a:latin typeface="Franklin Gothic Boo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students to track growth</a:t>
                      </a:r>
                      <a:endParaRPr b="0" lang="en-US" sz="1800" spc="-1" strike="noStrike">
                        <a:solidFill>
                          <a:srgbClr val="000000"/>
                        </a:solidFill>
                        <a:latin typeface="Franklin Gothic Boo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Might help with tracking student profile paperwork – recruitment</a:t>
                      </a:r>
                      <a:endParaRPr b="0" lang="en-US" sz="1800" spc="-1" strike="noStrike">
                        <a:solidFill>
                          <a:srgbClr val="000000"/>
                        </a:solidFill>
                        <a:latin typeface="Franklin Gothic Boo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Platform for Thinking, speaking, writing </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pic>
        <p:nvPicPr>
          <p:cNvPr id="450" name="Picture 3" descr=""/>
          <p:cNvPicPr/>
          <p:nvPr/>
        </p:nvPicPr>
        <p:blipFill>
          <a:blip r:embed="rId2"/>
          <a:stretch/>
        </p:blipFill>
        <p:spPr>
          <a:xfrm>
            <a:off x="8088480" y="95400"/>
            <a:ext cx="971280" cy="97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Title 1" descr=""/>
          <p:cNvPicPr/>
          <p:nvPr/>
        </p:nvPicPr>
        <p:blipFill>
          <a:blip r:embed="rId1"/>
          <a:stretch/>
        </p:blipFill>
        <p:spPr>
          <a:xfrm>
            <a:off x="109440" y="457200"/>
            <a:ext cx="8882280" cy="1000080"/>
          </a:xfrm>
          <a:prstGeom prst="rect">
            <a:avLst/>
          </a:prstGeom>
          <a:ln w="0">
            <a:noFill/>
          </a:ln>
        </p:spPr>
      </p:pic>
      <p:sp>
        <p:nvSpPr>
          <p:cNvPr id="452" name=""/>
          <p:cNvSpPr txBox="1"/>
          <p:nvPr/>
        </p:nvSpPr>
        <p:spPr>
          <a:xfrm>
            <a:off x="304920" y="1554120"/>
            <a:ext cx="8686800" cy="4525920"/>
          </a:xfrm>
          <a:prstGeom prst="rect">
            <a:avLst/>
          </a:prstGeom>
          <a:noFill/>
          <a:ln w="0">
            <a:noFill/>
          </a:ln>
        </p:spPr>
        <p:txBody>
          <a:bodyPr anchor="t">
            <a:norm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4e3b30"/>
                </a:solidFill>
                <a:latin typeface="Franklin Gothic Book"/>
              </a:rPr>
              <a:t>Standard 6</a:t>
            </a:r>
            <a:endParaRPr b="0" lang="en-US" sz="4200" spc="-1" strike="noStrike">
              <a:solidFill>
                <a:srgbClr val="4e3b30"/>
              </a:solidFill>
              <a:latin typeface="Franklin Gothic Book"/>
            </a:endParaRPr>
          </a:p>
          <a:p>
            <a:pPr>
              <a:spcBef>
                <a:spcPts val="90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Book"/>
              </a:rPr>
              <a:t>Where are we?</a:t>
            </a:r>
            <a:endParaRPr b="0" lang="en-US" sz="3600" spc="-1" strike="noStrike">
              <a:solidFill>
                <a:srgbClr val="4e3b30"/>
              </a:solidFill>
              <a:latin typeface="Franklin Gothic Book"/>
            </a:endParaRPr>
          </a:p>
          <a:p>
            <a:pPr>
              <a:spcBef>
                <a:spcPts val="90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Book"/>
              </a:rPr>
              <a:t>What do we need?</a:t>
            </a:r>
            <a:endParaRPr b="0" lang="en-US" sz="3600" spc="-1" strike="noStrike">
              <a:solidFill>
                <a:srgbClr val="4e3b30"/>
              </a:solidFill>
              <a:latin typeface="Franklin Gothic Book"/>
            </a:endParaRPr>
          </a:p>
          <a:p>
            <a:pPr>
              <a:spcBef>
                <a:spcPts val="90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Book"/>
              </a:rPr>
              <a:t>How can we support you?</a:t>
            </a:r>
            <a:endParaRPr b="0" lang="en-US" sz="3600" spc="-1" strike="noStrike">
              <a:solidFill>
                <a:srgbClr val="4e3b30"/>
              </a:solidFill>
              <a:latin typeface="Franklin Gothic Book"/>
            </a:endParaRPr>
          </a:p>
        </p:txBody>
      </p:sp>
      <p:pic>
        <p:nvPicPr>
          <p:cNvPr id="453" name="Picture 4" descr="C:\Users\egrimes-droessler\AppData\Local\Microsoft\Windows\Temporary Internet Files\Content.IE5\GMWL55EL\MM900323809[1].gif"/>
          <p:cNvPicPr/>
          <p:nvPr/>
        </p:nvPicPr>
        <p:blipFill>
          <a:blip r:embed="rId2"/>
          <a:stretch/>
        </p:blipFill>
        <p:spPr>
          <a:xfrm>
            <a:off x="8153280" y="152280"/>
            <a:ext cx="849600" cy="85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1" descr=""/>
          <p:cNvPicPr/>
          <p:nvPr/>
        </p:nvPicPr>
        <p:blipFill>
          <a:blip r:embed="rId1"/>
          <a:stretch/>
        </p:blipFill>
        <p:spPr>
          <a:xfrm>
            <a:off x="109440" y="457200"/>
            <a:ext cx="8882280" cy="1000080"/>
          </a:xfrm>
          <a:prstGeom prst="rect">
            <a:avLst/>
          </a:prstGeom>
          <a:ln w="0">
            <a:noFill/>
          </a:ln>
        </p:spPr>
      </p:pic>
      <p:sp>
        <p:nvSpPr>
          <p:cNvPr id="455" name=""/>
          <p:cNvSpPr txBox="1"/>
          <p:nvPr/>
        </p:nvSpPr>
        <p:spPr>
          <a:xfrm>
            <a:off x="304920" y="1218960"/>
            <a:ext cx="8686800" cy="5638680"/>
          </a:xfrm>
          <a:prstGeom prst="rect">
            <a:avLst/>
          </a:prstGeom>
          <a:noFill/>
          <a:ln w="0">
            <a:noFill/>
          </a:ln>
        </p:spPr>
        <p:txBody>
          <a:bodyPr anchor="t">
            <a:normAutofit fontScale="92000"/>
          </a:bodyPr>
          <a:p>
            <a:pPr marL="315360" indent="-315360">
              <a:lnSpc>
                <a:spcPct val="9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Pieces of Gold</a:t>
            </a:r>
            <a:endParaRPr b="0" lang="en-US" sz="30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Role models</a:t>
            </a: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Effective recruitment</a:t>
            </a: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Demonstrates the sequential nature of the arts</a:t>
            </a: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Wake Education Partnership – Teacher Grants</a:t>
            </a:r>
            <a:endParaRPr b="0" lang="en-US" sz="2600" spc="-1" strike="noStrike">
              <a:solidFill>
                <a:srgbClr val="4e3b30"/>
              </a:solidFill>
              <a:latin typeface="Franklin Gothic Book"/>
            </a:endParaRPr>
          </a:p>
          <a:p>
            <a:pPr marL="315360" indent="-315360">
              <a:lnSpc>
                <a:spcPct val="9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Gifts of Gold</a:t>
            </a:r>
            <a:endParaRPr b="0" lang="en-US" sz="30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Adjudicated by professional artists</a:t>
            </a: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Demonstrates the comprehensive nature of Arts Ed</a:t>
            </a: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City of Raleigh Arts Commission</a:t>
            </a:r>
            <a:endParaRPr b="0" lang="en-US" sz="2600" spc="-1" strike="noStrike">
              <a:solidFill>
                <a:srgbClr val="4e3b30"/>
              </a:solidFill>
              <a:latin typeface="Franklin Gothic Book"/>
            </a:endParaRPr>
          </a:p>
          <a:p>
            <a:pPr marL="315360" indent="-315360">
              <a:lnSpc>
                <a:spcPct val="9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United Arts Council </a:t>
            </a:r>
            <a:r>
              <a:rPr b="0" lang="en-US" sz="3000" spc="-1" strike="noStrike">
                <a:solidFill>
                  <a:srgbClr val="4e3b30"/>
                </a:solidFill>
                <a:latin typeface="Franklin Gothic Book"/>
              </a:rPr>
              <a:t>– </a:t>
            </a:r>
            <a:endParaRPr b="0" lang="en-US" sz="30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Journey through the Arts – Artists-In-Schools - Grants</a:t>
            </a:r>
            <a:endParaRPr b="0" lang="en-US" sz="2600" spc="-1" strike="noStrike">
              <a:solidFill>
                <a:srgbClr val="4e3b30"/>
              </a:solidFill>
              <a:latin typeface="Franklin Gothic Book"/>
            </a:endParaRPr>
          </a:p>
          <a:p>
            <a:pPr marL="315360" indent="-315360">
              <a:lnSpc>
                <a:spcPct val="9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Action Step </a:t>
            </a:r>
            <a:r>
              <a:rPr b="0" lang="en-US" sz="3000" spc="-1" strike="noStrike">
                <a:solidFill>
                  <a:srgbClr val="4e3b30"/>
                </a:solidFill>
                <a:latin typeface="Franklin Gothic Book"/>
              </a:rPr>
              <a:t>– Make a commitment to be involved</a:t>
            </a:r>
            <a:endParaRPr b="0" lang="en-US" sz="30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lvl="1" marL="683280" indent="-26280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pic>
        <p:nvPicPr>
          <p:cNvPr id="456" name="Picture 5" descr="C:\Users\egrimes-droessler\AppData\Local\Microsoft\Windows\Temporary Internet Files\Content.IE5\2OOO0STI\MC900056208[1].wmf"/>
          <p:cNvPicPr/>
          <p:nvPr/>
        </p:nvPicPr>
        <p:blipFill>
          <a:blip r:embed="rId2"/>
          <a:stretch/>
        </p:blipFill>
        <p:spPr>
          <a:xfrm>
            <a:off x="7829640" y="76320"/>
            <a:ext cx="1314360" cy="53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109440" y="457200"/>
            <a:ext cx="8882280" cy="1000080"/>
          </a:xfrm>
          <a:prstGeom prst="rect">
            <a:avLst/>
          </a:prstGeom>
          <a:ln w="0">
            <a:noFill/>
          </a:ln>
        </p:spPr>
      </p:pic>
      <p:sp>
        <p:nvSpPr>
          <p:cNvPr id="410" name=""/>
          <p:cNvSpPr txBox="1"/>
          <p:nvPr/>
        </p:nvSpPr>
        <p:spPr>
          <a:xfrm>
            <a:off x="304920" y="1219320"/>
            <a:ext cx="8686800" cy="5486400"/>
          </a:xfrm>
          <a:prstGeom prst="rect">
            <a:avLst/>
          </a:prstGeom>
          <a:no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Mindset</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Franklin Gothic Book"/>
              </a:rPr>
              <a:t>Growth vs. Fixed (Carol Dweck)</a:t>
            </a:r>
            <a:endParaRPr b="0" lang="en-US" sz="2800" spc="-1" strike="noStrike">
              <a:solidFill>
                <a:srgbClr val="4e3b30"/>
              </a:solidFill>
              <a:latin typeface="Franklin Gothic Book"/>
            </a:endParaRPr>
          </a:p>
          <a:p>
            <a:pPr lvl="2" marL="1143000" indent="-22860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Agree or Disagree</a:t>
            </a:r>
            <a:endParaRPr b="0" lang="en-US" sz="2400" spc="-1" strike="noStrike">
              <a:solidFill>
                <a:srgbClr val="4e3b30"/>
              </a:solidFill>
              <a:latin typeface="Franklin Gothic Book"/>
            </a:endParaRPr>
          </a:p>
          <a:p>
            <a:pPr marL="343080" indent="-343080">
              <a:spcBef>
                <a:spcPts val="799"/>
              </a:spcBef>
              <a:spcAft>
                <a:spcPts val="119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You have a certain amount of intelligence, and you can’t really do much to change it.</a:t>
            </a:r>
            <a:endParaRPr b="0" lang="en-US" sz="3200" spc="-1" strike="noStrike">
              <a:solidFill>
                <a:srgbClr val="4e3b30"/>
              </a:solidFill>
              <a:latin typeface="Franklin Gothic Book"/>
            </a:endParaRPr>
          </a:p>
          <a:p>
            <a:pPr marL="343080" indent="-343080">
              <a:spcBef>
                <a:spcPts val="799"/>
              </a:spcBef>
              <a:spcAft>
                <a:spcPts val="119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You have a certain amount of talent, and you can’t really do much to change it.</a:t>
            </a:r>
            <a:endParaRPr b="0" lang="en-US" sz="3200" spc="-1" strike="noStrike">
              <a:solidFill>
                <a:srgbClr val="4e3b30"/>
              </a:solidFill>
              <a:latin typeface="Franklin Gothic Book"/>
            </a:endParaRPr>
          </a:p>
          <a:p>
            <a:pPr marL="343080" indent="-343080">
              <a:spcBef>
                <a:spcPts val="799"/>
              </a:spcBef>
              <a:spcAft>
                <a:spcPts val="119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You can learn new things, but you can’t really change your basic level of talent.</a:t>
            </a:r>
            <a:endParaRPr b="0" lang="en-US" sz="3200" spc="-1" strike="noStrike">
              <a:solidFill>
                <a:srgbClr val="4e3b30"/>
              </a:solidFill>
              <a:latin typeface="Franklin Gothic Book"/>
            </a:endParaRPr>
          </a:p>
          <a:p>
            <a:pPr marL="343080" indent="-343080">
              <a:spcBef>
                <a:spcPts val="799"/>
              </a:spcBef>
              <a:spcAft>
                <a:spcPts val="119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spcAft>
                <a:spcPts val="1199"/>
              </a:spcAft>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lvl="2" marL="1143000" indent="-22860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Title 1" descr=""/>
          <p:cNvPicPr/>
          <p:nvPr/>
        </p:nvPicPr>
        <p:blipFill>
          <a:blip r:embed="rId1"/>
          <a:stretch/>
        </p:blipFill>
        <p:spPr>
          <a:xfrm>
            <a:off x="109440" y="457200"/>
            <a:ext cx="8882280" cy="1000080"/>
          </a:xfrm>
          <a:prstGeom prst="rect">
            <a:avLst/>
          </a:prstGeom>
          <a:ln w="0">
            <a:noFill/>
          </a:ln>
        </p:spPr>
      </p:pic>
      <p:sp>
        <p:nvSpPr>
          <p:cNvPr id="45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59" name="Picture 2" descr=""/>
          <p:cNvPicPr/>
          <p:nvPr/>
        </p:nvPicPr>
        <p:blipFill>
          <a:blip r:embed="rId2"/>
          <a:stretch/>
        </p:blipFill>
        <p:spPr>
          <a:xfrm>
            <a:off x="685800" y="1371600"/>
            <a:ext cx="7772400" cy="4429080"/>
          </a:xfrm>
          <a:prstGeom prst="rect">
            <a:avLst/>
          </a:prstGeom>
          <a:ln w="0">
            <a:noFill/>
          </a:ln>
        </p:spPr>
      </p:pic>
      <p:pic>
        <p:nvPicPr>
          <p:cNvPr id="460" name="Picture 5" descr="C:\Users\egrimes-droessler\AppData\Local\Microsoft\Windows\Temporary Internet Files\Content.IE5\2OOO0STI\MC900056208[1].wmf"/>
          <p:cNvPicPr/>
          <p:nvPr/>
        </p:nvPicPr>
        <p:blipFill>
          <a:blip r:embed="rId3"/>
          <a:stretch/>
        </p:blipFill>
        <p:spPr>
          <a:xfrm>
            <a:off x="7829640" y="76320"/>
            <a:ext cx="1314360" cy="536400"/>
          </a:xfrm>
          <a:prstGeom prst="rect">
            <a:avLst/>
          </a:prstGeom>
          <a:ln w="0">
            <a:noFill/>
          </a:ln>
        </p:spPr>
      </p:pic>
      <p:sp>
        <p:nvSpPr>
          <p:cNvPr id="461" name="TextBox 3"/>
          <p:cNvSpPr/>
          <p:nvPr/>
        </p:nvSpPr>
        <p:spPr>
          <a:xfrm>
            <a:off x="0" y="5983200"/>
            <a:ext cx="9144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ead the R&amp;P of Board Policy 5430 and follow those guidelines in your planning</a:t>
            </a:r>
            <a:endParaRPr b="0" lang="en-US" sz="20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109440" y="457200"/>
            <a:ext cx="8882280" cy="1000080"/>
          </a:xfrm>
          <a:prstGeom prst="rect">
            <a:avLst/>
          </a:prstGeom>
          <a:ln w="0">
            <a:noFill/>
          </a:ln>
        </p:spPr>
      </p:pic>
      <p:sp>
        <p:nvSpPr>
          <p:cNvPr id="46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464" name="Picture 5" descr="C:\Users\egrimes-droessler\AppData\Local\Microsoft\Windows\Temporary Internet Files\Content.IE5\2OOO0STI\MC900056208[1].wmf"/>
          <p:cNvPicPr/>
          <p:nvPr/>
        </p:nvPicPr>
        <p:blipFill>
          <a:blip r:embed="rId2"/>
          <a:stretch/>
        </p:blipFill>
        <p:spPr>
          <a:xfrm>
            <a:off x="7829640" y="76320"/>
            <a:ext cx="1314360" cy="536400"/>
          </a:xfrm>
          <a:prstGeom prst="rect">
            <a:avLst/>
          </a:prstGeom>
          <a:ln w="0">
            <a:noFill/>
          </a:ln>
        </p:spPr>
      </p:pic>
      <p:pic>
        <p:nvPicPr>
          <p:cNvPr id="465" name="Picture 6" descr=""/>
          <p:cNvPicPr/>
          <p:nvPr/>
        </p:nvPicPr>
        <p:blipFill>
          <a:blip r:embed="rId3"/>
          <a:stretch/>
        </p:blipFill>
        <p:spPr>
          <a:xfrm>
            <a:off x="228600" y="1447920"/>
            <a:ext cx="8508960" cy="5105160"/>
          </a:xfrm>
          <a:prstGeom prst="rect">
            <a:avLst/>
          </a:prstGeom>
          <a:ln w="0">
            <a:noFill/>
          </a:ln>
        </p:spPr>
      </p:pic>
      <p:sp>
        <p:nvSpPr>
          <p:cNvPr id="466" name="TextBox 2"/>
          <p:cNvSpPr/>
          <p:nvPr/>
        </p:nvSpPr>
        <p:spPr>
          <a:xfrm>
            <a:off x="4648320" y="1981080"/>
            <a:ext cx="40892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This planning form</a:t>
            </a:r>
            <a:endParaRPr b="0" lang="en-US" sz="36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is posted on the Arts Ed Wiki</a:t>
            </a:r>
            <a:endParaRPr b="0" lang="en-US" sz="3600" spc="-1" strike="noStrike">
              <a:solidFill>
                <a:srgbClr val="000000"/>
              </a:solidFill>
              <a:latin typeface="Franklin Gothic Book"/>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ea typeface="Arial"/>
              </a:rPr>
              <a:t>Under Arts Staff Mtg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le 1" descr=""/>
          <p:cNvPicPr/>
          <p:nvPr/>
        </p:nvPicPr>
        <p:blipFill>
          <a:blip r:embed="rId1"/>
          <a:stretch/>
        </p:blipFill>
        <p:spPr>
          <a:xfrm>
            <a:off x="109440" y="457200"/>
            <a:ext cx="8882280" cy="1000080"/>
          </a:xfrm>
          <a:prstGeom prst="rect">
            <a:avLst/>
          </a:prstGeom>
          <a:ln w="0">
            <a:noFill/>
          </a:ln>
        </p:spPr>
      </p:pic>
      <p:sp>
        <p:nvSpPr>
          <p:cNvPr id="468" name=""/>
          <p:cNvSpPr txBox="1"/>
          <p:nvPr/>
        </p:nvSpPr>
        <p:spPr>
          <a:xfrm>
            <a:off x="0" y="1142640"/>
            <a:ext cx="541008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3b30"/>
                </a:solidFill>
                <a:latin typeface="Franklin Gothic Book"/>
              </a:rPr>
              <a:t>Be sure your forms include:</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etailed itinerary</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lear link to instruction</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etailed safety plan</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Accurate participant numbers</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pecific location (city/state)</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Volunteer registration</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Driver’s Liability</a:t>
            </a:r>
            <a:endParaRPr b="0" lang="en-US" sz="2400" spc="-1" strike="noStrike">
              <a:solidFill>
                <a:srgbClr val="4e3b30"/>
              </a:solidFill>
              <a:latin typeface="Franklin Gothic Book"/>
            </a:endParaRPr>
          </a:p>
          <a:p>
            <a:pPr>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ist of Chaperone Duties Appropriate/accurate ratio of chaperones</a:t>
            </a:r>
            <a:endParaRPr b="0" lang="en-US" sz="2400" spc="-1" strike="noStrike">
              <a:solidFill>
                <a:srgbClr val="4e3b30"/>
              </a:solidFill>
              <a:latin typeface="Franklin Gothic Book"/>
            </a:endParaRPr>
          </a:p>
        </p:txBody>
      </p:sp>
      <p:pic>
        <p:nvPicPr>
          <p:cNvPr id="469" name="Picture 2" descr=""/>
          <p:cNvPicPr/>
          <p:nvPr/>
        </p:nvPicPr>
        <p:blipFill>
          <a:blip r:embed="rId2"/>
          <a:stretch/>
        </p:blipFill>
        <p:spPr>
          <a:xfrm>
            <a:off x="4314960" y="1295280"/>
            <a:ext cx="4794120" cy="4734000"/>
          </a:xfrm>
          <a:prstGeom prst="rect">
            <a:avLst/>
          </a:prstGeom>
          <a:ln w="0">
            <a:noFill/>
          </a:ln>
        </p:spPr>
      </p:pic>
      <p:sp>
        <p:nvSpPr>
          <p:cNvPr id="470" name="TextBox 3"/>
          <p:cNvSpPr/>
          <p:nvPr/>
        </p:nvSpPr>
        <p:spPr>
          <a:xfrm>
            <a:off x="0" y="6029280"/>
            <a:ext cx="9059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These procedures are designed to protect you and your students!</a:t>
            </a:r>
            <a:endParaRPr b="0" lang="en-US" sz="2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471" name="Picture 5" descr="C:\Users\egrimes-droessler\AppData\Local\Microsoft\Windows\Temporary Internet Files\Content.IE5\2OOO0STI\MC900056208[1].wmf"/>
          <p:cNvPicPr/>
          <p:nvPr/>
        </p:nvPicPr>
        <p:blipFill>
          <a:blip r:embed="rId3"/>
          <a:stretch/>
        </p:blipFill>
        <p:spPr>
          <a:xfrm>
            <a:off x="7829640" y="76320"/>
            <a:ext cx="1314360" cy="53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109440" y="457200"/>
            <a:ext cx="8882280" cy="1000080"/>
          </a:xfrm>
          <a:prstGeom prst="rect">
            <a:avLst/>
          </a:prstGeom>
          <a:ln w="0">
            <a:noFill/>
          </a:ln>
        </p:spPr>
      </p:pic>
      <p:sp>
        <p:nvSpPr>
          <p:cNvPr id="473" name=""/>
          <p:cNvSpPr txBox="1"/>
          <p:nvPr/>
        </p:nvSpPr>
        <p:spPr>
          <a:xfrm>
            <a:off x="-360" y="1554120"/>
            <a:ext cx="8991720" cy="4525920"/>
          </a:xfrm>
          <a:prstGeom prst="rect">
            <a:avLst/>
          </a:prstGeom>
          <a:noFill/>
          <a:ln w="0">
            <a:noFill/>
          </a:ln>
        </p:spPr>
        <p:txBody>
          <a:bodyPr anchor="t">
            <a:normAutofit/>
          </a:bodyPr>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DMODO Arts Ed Common Core Group    yahbku</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Great job posting Phase IV lesso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Arts Ed Wiki    </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ttp://arts-education-wake.wikispaces.com/</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Title 1" descr=""/>
          <p:cNvPicPr/>
          <p:nvPr/>
        </p:nvPicPr>
        <p:blipFill>
          <a:blip r:embed="rId1"/>
          <a:stretch/>
        </p:blipFill>
        <p:spPr>
          <a:xfrm>
            <a:off x="109440" y="457200"/>
            <a:ext cx="8882280" cy="1000080"/>
          </a:xfrm>
          <a:prstGeom prst="rect">
            <a:avLst/>
          </a:prstGeom>
          <a:ln w="0">
            <a:noFill/>
          </a:ln>
        </p:spPr>
      </p:pic>
      <p:pic>
        <p:nvPicPr>
          <p:cNvPr id="475" name="Content Placeholder 2" descr=""/>
          <p:cNvPicPr/>
          <p:nvPr/>
        </p:nvPicPr>
        <p:blipFill>
          <a:blip r:embed="rId2"/>
          <a:stretch/>
        </p:blipFill>
        <p:spPr>
          <a:xfrm>
            <a:off x="-152280" y="1481040"/>
            <a:ext cx="9296280" cy="4595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Title 1" descr=""/>
          <p:cNvPicPr/>
          <p:nvPr/>
        </p:nvPicPr>
        <p:blipFill>
          <a:blip r:embed="rId1"/>
          <a:stretch/>
        </p:blipFill>
        <p:spPr>
          <a:xfrm>
            <a:off x="109440" y="457200"/>
            <a:ext cx="8882280" cy="1000080"/>
          </a:xfrm>
          <a:prstGeom prst="rect">
            <a:avLst/>
          </a:prstGeom>
          <a:ln w="0">
            <a:noFill/>
          </a:ln>
        </p:spPr>
      </p:pic>
      <p:sp>
        <p:nvSpPr>
          <p:cNvPr id="477" name=""/>
          <p:cNvSpPr txBox="1"/>
          <p:nvPr/>
        </p:nvSpPr>
        <p:spPr>
          <a:xfrm>
            <a:off x="0" y="1371600"/>
            <a:ext cx="9144000" cy="5486400"/>
          </a:xfrm>
          <a:prstGeom prst="rect">
            <a:avLst/>
          </a:prstGeom>
          <a:noFill/>
          <a:ln w="0">
            <a:noFill/>
          </a:ln>
        </p:spPr>
        <p:txBody>
          <a:bodyPr anchor="t">
            <a:normAutofit/>
          </a:bodyPr>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Alignment – Middle&gt;High (how can we set up better relations/communications across grade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ore meaningful use of early release days – PLT – Vertical alignment meet w/Art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LT:  Commonalities we can build on to have an effective school-based PLT</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Grants for bring Visiting Artists In</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Lists of Artists willing to work with HS students – (very little in UAC Book)</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Future courses – If we could dream what would we teach (course titles &amp; sequence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eeting w/ Core rep to let them know what arts are doing to support creative growth in student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What can be done to stop the constant cycle of having to justify the arts – our program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What resources are offered to Arts Teachers from the County?</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hare from NCAEA conference</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Enjoyed discussions with like subject area – more please!</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How to encourage middle principals to increase arts classe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109440" y="457200"/>
            <a:ext cx="8882280" cy="1000080"/>
          </a:xfrm>
          <a:prstGeom prst="rect">
            <a:avLst/>
          </a:prstGeom>
          <a:ln w="0">
            <a:noFill/>
          </a:ln>
        </p:spPr>
      </p:pic>
      <p:sp>
        <p:nvSpPr>
          <p:cNvPr id="479" name=""/>
          <p:cNvSpPr txBox="1"/>
          <p:nvPr/>
        </p:nvSpPr>
        <p:spPr>
          <a:xfrm>
            <a:off x="0" y="1752480"/>
            <a:ext cx="9144000" cy="5105520"/>
          </a:xfrm>
          <a:prstGeom prst="rect">
            <a:avLst/>
          </a:prstGeom>
          <a:noFill/>
          <a:ln w="0">
            <a:noFill/>
          </a:ln>
        </p:spPr>
        <p:txBody>
          <a:bodyPr anchor="t">
            <a:normAutofit/>
          </a:bodyPr>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rogress on Artsfolio – how to navigate – using new electronic portfolios (in music, et. al.)</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Std 6 - Analysis of Student work – more description on what this will look like – how will growth be measured (what will establish a student’s level @ the beginning of a course in order to see growth by the end of the course)</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rogress of Pilot Program</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echnology – how to get it</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Time – how to accomplish</a:t>
            </a:r>
            <a:endParaRPr b="0" lang="en-US" sz="1800" spc="-1" strike="noStrike">
              <a:solidFill>
                <a:srgbClr val="4e3b30"/>
              </a:solidFill>
              <a:latin typeface="Franklin Gothic Book"/>
            </a:endParaRPr>
          </a:p>
          <a:p>
            <a:pPr marL="343080" indent="-343080">
              <a:spcBef>
                <a:spcPts val="9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Clarify Edmodo Arts # for all  </a:t>
            </a:r>
            <a:r>
              <a:rPr b="1" i="1" lang="en-US" sz="3600" spc="-1" strike="noStrike">
                <a:solidFill>
                  <a:srgbClr val="4e3b30"/>
                </a:solidFill>
                <a:latin typeface="Franklin Gothic Book"/>
              </a:rPr>
              <a:t>yahbku</a:t>
            </a:r>
            <a:endParaRPr b="0" lang="en-US" sz="36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Professional Development Mini-course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Middle School Schedule Ideas</a:t>
            </a: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109440" y="457200"/>
            <a:ext cx="8882280" cy="1000080"/>
          </a:xfrm>
          <a:prstGeom prst="rect">
            <a:avLst/>
          </a:prstGeom>
          <a:ln w="0">
            <a:noFill/>
          </a:ln>
        </p:spPr>
      </p:pic>
      <p:sp>
        <p:nvSpPr>
          <p:cNvPr id="412" name=""/>
          <p:cNvSpPr txBox="1"/>
          <p:nvPr/>
        </p:nvSpPr>
        <p:spPr>
          <a:xfrm>
            <a:off x="75960" y="1600200"/>
            <a:ext cx="8915400" cy="5105520"/>
          </a:xfrm>
          <a:prstGeom prst="rect">
            <a:avLst/>
          </a:prstGeom>
          <a:noFill/>
          <a:ln w="0">
            <a:noFill/>
          </a:ln>
        </p:spPr>
        <p:txBody>
          <a:bodyPr anchor="t">
            <a:normAutofit fontScale="89000"/>
          </a:bodyPr>
          <a:p>
            <a:pPr>
              <a:spcBef>
                <a:spcPts val="8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4e3b30"/>
                </a:solidFill>
                <a:latin typeface="Franklin Gothic Book"/>
              </a:rPr>
              <a:t>How to change from a fixed to a growth mindset</a:t>
            </a:r>
            <a:endParaRPr b="0" lang="en-US" sz="3400" spc="-1" strike="noStrike">
              <a:solidFill>
                <a:srgbClr val="4e3b30"/>
              </a:solidFill>
              <a:latin typeface="Franklin Gothic Book"/>
            </a:endParaRPr>
          </a:p>
          <a:p>
            <a:pPr>
              <a:spcBef>
                <a:spcPts val="751"/>
              </a:spcBef>
              <a:spcAft>
                <a:spcPts val="1199"/>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Step1. Learn to hear your fixed mindset “voice.”</a:t>
            </a:r>
            <a:endParaRPr b="0" lang="en-US" sz="3000" spc="-1" strike="noStrike">
              <a:solidFill>
                <a:srgbClr val="4e3b30"/>
              </a:solidFill>
              <a:latin typeface="Franklin Gothic Book"/>
            </a:endParaRPr>
          </a:p>
          <a:p>
            <a:pPr>
              <a:spcBef>
                <a:spcPts val="751"/>
              </a:spcBef>
              <a:spcAft>
                <a:spcPts val="1199"/>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Step 2. Recognize you have a choice</a:t>
            </a:r>
            <a:endParaRPr b="0" lang="en-US" sz="3000" spc="-1" strike="noStrike">
              <a:solidFill>
                <a:srgbClr val="4e3b30"/>
              </a:solidFill>
              <a:latin typeface="Franklin Gothic Book"/>
            </a:endParaRPr>
          </a:p>
          <a:p>
            <a:pPr>
              <a:spcBef>
                <a:spcPts val="751"/>
              </a:spcBef>
              <a:spcAft>
                <a:spcPts val="1199"/>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Step 3. Talk back to it with a growth mindset voice</a:t>
            </a:r>
            <a:endParaRPr b="0" lang="en-US" sz="3000" spc="-1" strike="noStrike">
              <a:solidFill>
                <a:srgbClr val="4e3b30"/>
              </a:solidFill>
              <a:latin typeface="Franklin Gothic Book"/>
            </a:endParaRPr>
          </a:p>
          <a:p>
            <a:pPr>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Step 4. Take the growth mindset action</a:t>
            </a:r>
            <a:endParaRPr b="0" lang="en-US" sz="3000" spc="-1" strike="noStrike">
              <a:solidFill>
                <a:srgbClr val="4e3b30"/>
              </a:solidFill>
              <a:latin typeface="Franklin Gothic Book"/>
            </a:endParaRPr>
          </a:p>
          <a:p>
            <a:pPr lvl="1" marL="660960" indent="-254160">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Franklin Gothic Book"/>
              </a:rPr>
              <a:t>Take on the challenge wholeheartedly</a:t>
            </a:r>
            <a:endParaRPr b="0" lang="en-US" sz="2600" spc="-1" strike="noStrike">
              <a:solidFill>
                <a:srgbClr val="4e3b30"/>
              </a:solidFill>
              <a:latin typeface="Franklin Gothic Book"/>
            </a:endParaRPr>
          </a:p>
          <a:p>
            <a:pPr lvl="1" marL="660960" indent="-254160">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Franklin Gothic Book"/>
              </a:rPr>
              <a:t>Learn from your setbacks &amp; try again</a:t>
            </a:r>
            <a:endParaRPr b="0" lang="en-US" sz="2600" spc="-1" strike="noStrike">
              <a:solidFill>
                <a:srgbClr val="4e3b30"/>
              </a:solidFill>
              <a:latin typeface="Franklin Gothic Book"/>
            </a:endParaRPr>
          </a:p>
          <a:p>
            <a:pPr lvl="1" marL="660960" indent="-254160">
              <a:spcBef>
                <a:spcPts val="64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Franklin Gothic Book"/>
              </a:rPr>
              <a:t>Hear the criticism &amp; act on it </a:t>
            </a:r>
            <a:endParaRPr b="0" lang="en-US" sz="2600" spc="-1" strike="noStrike">
              <a:solidFill>
                <a:srgbClr val="4e3b30"/>
              </a:solidFill>
              <a:latin typeface="Franklin Gothic Book"/>
            </a:endParaRPr>
          </a:p>
          <a:p>
            <a:pPr>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109440" y="457200"/>
            <a:ext cx="8882280" cy="1000080"/>
          </a:xfrm>
          <a:prstGeom prst="rect">
            <a:avLst/>
          </a:prstGeom>
          <a:ln w="0">
            <a:noFill/>
          </a:ln>
        </p:spPr>
      </p:pic>
      <p:sp>
        <p:nvSpPr>
          <p:cNvPr id="414" name=""/>
          <p:cNvSpPr txBox="1"/>
          <p:nvPr/>
        </p:nvSpPr>
        <p:spPr>
          <a:xfrm>
            <a:off x="304920" y="1554120"/>
            <a:ext cx="8686800" cy="4525920"/>
          </a:xfrm>
          <a:prstGeom prst="rect">
            <a:avLst/>
          </a:prstGeom>
          <a:noFill/>
          <a:ln w="0">
            <a:noFill/>
          </a:ln>
        </p:spPr>
        <p:txBody>
          <a:bodyPr anchor="t">
            <a:normAutofit fontScale="94000"/>
          </a:bodyPr>
          <a:p>
            <a:pPr marL="322200" indent="-32220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Franklin Gothic Book"/>
              </a:rPr>
              <a:t>Who’s here</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emispheres – High School / Middle School</a:t>
            </a:r>
            <a:endParaRPr b="0" lang="en-US" sz="3200" spc="-1" strike="noStrike">
              <a:solidFill>
                <a:srgbClr val="4e3b30"/>
              </a:solidFill>
              <a:latin typeface="Franklin Gothic Book"/>
            </a:endParaRPr>
          </a:p>
          <a:p>
            <a:pPr lvl="2" marL="1074240" indent="-21456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Introduce yourself to another grade level colleague and share something positive that happened in class today</a:t>
            </a:r>
            <a:endParaRPr b="0" lang="en-US" sz="2400" spc="-1" strike="noStrike">
              <a:solidFill>
                <a:srgbClr val="4e3b30"/>
              </a:solidFill>
              <a:latin typeface="Franklin Gothic Book"/>
            </a:endParaRPr>
          </a:p>
          <a:p>
            <a:pPr lvl="2" marL="1074240" indent="-214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lvl="1" marL="698400" indent="-26856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4 corners – Visual Art / Music / Dance / Theatre</a:t>
            </a:r>
            <a:endParaRPr b="0" lang="en-US" sz="2800" spc="-1" strike="noStrike">
              <a:solidFill>
                <a:srgbClr val="4e3b30"/>
              </a:solidFill>
              <a:latin typeface="Franklin Gothic Book"/>
            </a:endParaRPr>
          </a:p>
          <a:p>
            <a:pPr lvl="2" marL="1074240" indent="-214560">
              <a:spcBef>
                <a:spcPts val="601"/>
              </a:spcBef>
              <a:buClr>
                <a:srgbClr val="f0a22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hare a warm-up you did with students this week – it could be a ‘bell-ringer’ writing exercise</a:t>
            </a:r>
            <a:endParaRPr b="0" lang="en-US" sz="2400" spc="-1" strike="noStrike">
              <a:solidFill>
                <a:srgbClr val="4e3b30"/>
              </a:solidFill>
              <a:latin typeface="Franklin Gothic Book"/>
            </a:endParaRPr>
          </a:p>
          <a:p>
            <a:pPr lvl="2" marL="1074240" indent="-214560">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Title 1" descr=""/>
          <p:cNvPicPr/>
          <p:nvPr/>
        </p:nvPicPr>
        <p:blipFill>
          <a:blip r:embed="rId1"/>
          <a:stretch/>
        </p:blipFill>
        <p:spPr>
          <a:xfrm>
            <a:off x="-171360" y="-12600"/>
            <a:ext cx="7711920" cy="993600"/>
          </a:xfrm>
          <a:prstGeom prst="rect">
            <a:avLst/>
          </a:prstGeom>
          <a:ln w="0">
            <a:noFill/>
          </a:ln>
        </p:spPr>
      </p:pic>
      <p:sp>
        <p:nvSpPr>
          <p:cNvPr id="416" name=""/>
          <p:cNvSpPr txBox="1"/>
          <p:nvPr/>
        </p:nvSpPr>
        <p:spPr>
          <a:xfrm>
            <a:off x="822240" y="1066320"/>
            <a:ext cx="7521840" cy="5791320"/>
          </a:xfrm>
          <a:prstGeom prst="rect">
            <a:avLst/>
          </a:prstGeom>
          <a:noFill/>
          <a:ln w="0">
            <a:noFill/>
          </a:ln>
        </p:spPr>
        <p:txBody>
          <a:bodyPr anchor="t">
            <a:normAutofit fontScale="99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3b30"/>
                </a:solidFill>
                <a:latin typeface="Franklin Gothic Book"/>
              </a:rPr>
              <a:t>Department Chairs  will have an opportunity to</a:t>
            </a:r>
            <a:r>
              <a:rPr b="0" lang="en-US" sz="1800" spc="-1" strike="noStrike">
                <a:solidFill>
                  <a:srgbClr val="4e3b30"/>
                </a:solidFill>
                <a:latin typeface="Franklin Gothic Book"/>
              </a:rPr>
              <a:t>:</a:t>
            </a:r>
            <a:endParaRPr b="0" lang="en-US" sz="1800" spc="-1" strike="noStrike">
              <a:solidFill>
                <a:srgbClr val="4e3b30"/>
              </a:solidFill>
              <a:latin typeface="Franklin Gothic Book"/>
            </a:endParaRPr>
          </a:p>
          <a:p>
            <a:pPr>
              <a:lnSpc>
                <a:spcPct val="80000"/>
              </a:lnSpc>
              <a:spcBef>
                <a:spcPts val="45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 discuss how the arts can contribute to student success (High School Graduation), and make a plan to gather Arts-specific data in their schools.</a:t>
            </a:r>
            <a:endParaRPr b="0" lang="en-US" sz="1800" spc="-1" strike="noStrike">
              <a:solidFill>
                <a:srgbClr val="4e3b30"/>
              </a:solidFill>
              <a:latin typeface="Franklin Gothic Book"/>
            </a:endParaRPr>
          </a:p>
          <a:p>
            <a:pPr>
              <a:lnSpc>
                <a:spcPct val="80000"/>
              </a:lnSpc>
              <a:spcBef>
                <a:spcPts val="45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2) analyze assessment documentation drafts that were created in April 2013 to support appropriate transitions between Middle &gt; High.  Chairs will devise a system for gathering and sharing implementation feedback </a:t>
            </a:r>
            <a:endParaRPr b="0" lang="en-US" sz="1800" spc="-1" strike="noStrike">
              <a:solidFill>
                <a:srgbClr val="4e3b30"/>
              </a:solidFill>
              <a:latin typeface="Franklin Gothic Book"/>
            </a:endParaRPr>
          </a:p>
          <a:p>
            <a:pPr>
              <a:lnSpc>
                <a:spcPct val="80000"/>
              </a:lnSpc>
              <a:spcBef>
                <a:spcPts val="45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3) review the concept of ArtsFolio and provide input on the effective implementation of a student-maintained electronic portfolio.</a:t>
            </a:r>
            <a:endParaRPr b="0" lang="en-US" sz="1800" spc="-1" strike="noStrike">
              <a:solidFill>
                <a:srgbClr val="4e3b30"/>
              </a:solidFill>
              <a:latin typeface="Franklin Gothic Book"/>
            </a:endParaRPr>
          </a:p>
          <a:p>
            <a:pPr>
              <a:lnSpc>
                <a:spcPct val="80000"/>
              </a:lnSpc>
              <a:spcBef>
                <a:spcPts val="45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4)  gain clarity on gathering performance data for Standard 6 on the Teacher Evaluation Instrument.</a:t>
            </a:r>
            <a:endParaRPr b="0" lang="en-US" sz="1800" spc="-1" strike="noStrike">
              <a:solidFill>
                <a:srgbClr val="4e3b30"/>
              </a:solidFill>
              <a:latin typeface="Franklin Gothic Book"/>
            </a:endParaRPr>
          </a:p>
          <a:p>
            <a:pPr>
              <a:lnSpc>
                <a:spcPct val="80000"/>
              </a:lnSpc>
              <a:spcBef>
                <a:spcPts val="451"/>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5)  Understand the need for secondary participation in district-wide initiatives such as Pieces of Gold/Gifts of Gold, WCPSS displays, (Wake Ed Partnership, United Arts, CORAC )</a:t>
            </a:r>
            <a:endParaRPr b="0" lang="en-US" sz="1800" spc="-1" strike="noStrike">
              <a:solidFill>
                <a:srgbClr val="4e3b30"/>
              </a:solidFill>
              <a:latin typeface="Franklin Gothic Book"/>
            </a:endParaRPr>
          </a:p>
          <a:p>
            <a:pPr>
              <a:lnSpc>
                <a:spcPct val="80000"/>
              </a:lnSpc>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6)  Logistics – Edmodo,  field trip procedures–helpful tips </a:t>
            </a:r>
            <a:br>
              <a:rPr sz="1800"/>
            </a:b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a:lnSpc>
                <a:spcPct val="8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pic>
        <p:nvPicPr>
          <p:cNvPr id="417" name="Picture 2" descr="C:\Users\egrimes-droessler\AppData\Local\Microsoft\Windows\Temporary Internet Files\Content.IE5\3PSPYZN4\MC900078791[1].wmf"/>
          <p:cNvPicPr/>
          <p:nvPr/>
        </p:nvPicPr>
        <p:blipFill>
          <a:blip r:embed="rId2"/>
          <a:stretch/>
        </p:blipFill>
        <p:spPr>
          <a:xfrm>
            <a:off x="8229600" y="1066680"/>
            <a:ext cx="623880" cy="1233720"/>
          </a:xfrm>
          <a:prstGeom prst="rect">
            <a:avLst/>
          </a:prstGeom>
          <a:ln w="0">
            <a:noFill/>
          </a:ln>
        </p:spPr>
      </p:pic>
      <p:pic>
        <p:nvPicPr>
          <p:cNvPr id="418" name="Picture 3" descr="C:\Users\egrimes-droessler\AppData\Local\Microsoft\Windows\Temporary Internet Files\Content.IE5\GMWL55EL\MC900310998[1].wmf"/>
          <p:cNvPicPr/>
          <p:nvPr/>
        </p:nvPicPr>
        <p:blipFill>
          <a:blip r:embed="rId3"/>
          <a:stretch/>
        </p:blipFill>
        <p:spPr>
          <a:xfrm>
            <a:off x="-28440" y="2362320"/>
            <a:ext cx="1019160" cy="990360"/>
          </a:xfrm>
          <a:prstGeom prst="rect">
            <a:avLst/>
          </a:prstGeom>
          <a:ln w="0">
            <a:noFill/>
          </a:ln>
        </p:spPr>
      </p:pic>
      <p:pic>
        <p:nvPicPr>
          <p:cNvPr id="419" name="Picture 3" descr=""/>
          <p:cNvPicPr/>
          <p:nvPr/>
        </p:nvPicPr>
        <p:blipFill>
          <a:blip r:embed="rId4"/>
          <a:stretch/>
        </p:blipFill>
        <p:spPr>
          <a:xfrm>
            <a:off x="8055000" y="3352680"/>
            <a:ext cx="971640" cy="971640"/>
          </a:xfrm>
          <a:prstGeom prst="rect">
            <a:avLst/>
          </a:prstGeom>
          <a:ln w="0">
            <a:noFill/>
          </a:ln>
        </p:spPr>
      </p:pic>
      <p:pic>
        <p:nvPicPr>
          <p:cNvPr id="420" name="Picture 4" descr="C:\Users\egrimes-droessler\AppData\Local\Microsoft\Windows\Temporary Internet Files\Content.IE5\GMWL55EL\MM900323809[1].gif"/>
          <p:cNvPicPr/>
          <p:nvPr/>
        </p:nvPicPr>
        <p:blipFill>
          <a:blip r:embed="rId5"/>
          <a:stretch/>
        </p:blipFill>
        <p:spPr>
          <a:xfrm>
            <a:off x="30240" y="4118040"/>
            <a:ext cx="849240" cy="857160"/>
          </a:xfrm>
          <a:prstGeom prst="rect">
            <a:avLst/>
          </a:prstGeom>
          <a:ln w="0">
            <a:noFill/>
          </a:ln>
        </p:spPr>
      </p:pic>
      <p:pic>
        <p:nvPicPr>
          <p:cNvPr id="421" name="Picture 5" descr="C:\Users\egrimes-droessler\AppData\Local\Microsoft\Windows\Temporary Internet Files\Content.IE5\2OOO0STI\MC900056208[1].wmf"/>
          <p:cNvPicPr/>
          <p:nvPr/>
        </p:nvPicPr>
        <p:blipFill>
          <a:blip r:embed="rId6"/>
          <a:stretch/>
        </p:blipFill>
        <p:spPr>
          <a:xfrm>
            <a:off x="7448400" y="5564160"/>
            <a:ext cx="1314720" cy="536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109440" y="457200"/>
            <a:ext cx="8882280" cy="1000080"/>
          </a:xfrm>
          <a:prstGeom prst="rect">
            <a:avLst/>
          </a:prstGeom>
          <a:ln w="0">
            <a:noFill/>
          </a:ln>
        </p:spPr>
      </p:pic>
      <p:sp>
        <p:nvSpPr>
          <p:cNvPr id="423" name=""/>
          <p:cNvSpPr txBox="1"/>
          <p:nvPr/>
        </p:nvSpPr>
        <p:spPr>
          <a:xfrm>
            <a:off x="304920" y="1142640"/>
            <a:ext cx="8686800" cy="571500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o participates in the arts?</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High flyer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Curiou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Support @ home</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o does not participate in the art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y?</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Remedial classes = limited access to electives</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Limited facilities/teachers/equipment</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pic>
        <p:nvPicPr>
          <p:cNvPr id="424" name="Picture 2" descr="C:\Users\egrimes-droessler\AppData\Local\Microsoft\Windows\Temporary Internet Files\Content.IE5\3PSPYZN4\MC900078791[1].wmf"/>
          <p:cNvPicPr/>
          <p:nvPr/>
        </p:nvPicPr>
        <p:blipFill>
          <a:blip r:embed="rId2"/>
          <a:stretch/>
        </p:blipFill>
        <p:spPr>
          <a:xfrm>
            <a:off x="8229600" y="1204920"/>
            <a:ext cx="623880" cy="123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Title 1" descr=""/>
          <p:cNvPicPr/>
          <p:nvPr/>
        </p:nvPicPr>
        <p:blipFill>
          <a:blip r:embed="rId1"/>
          <a:stretch/>
        </p:blipFill>
        <p:spPr>
          <a:xfrm>
            <a:off x="109440" y="457200"/>
            <a:ext cx="8882280" cy="1000080"/>
          </a:xfrm>
          <a:prstGeom prst="rect">
            <a:avLst/>
          </a:prstGeom>
          <a:ln w="0">
            <a:noFill/>
          </a:ln>
        </p:spPr>
      </p:pic>
      <p:sp>
        <p:nvSpPr>
          <p:cNvPr id="426" name=""/>
          <p:cNvSpPr txBox="1"/>
          <p:nvPr/>
        </p:nvSpPr>
        <p:spPr>
          <a:xfrm>
            <a:off x="304920" y="1554120"/>
            <a:ext cx="8686800" cy="5151600"/>
          </a:xfrm>
          <a:prstGeom prst="rect">
            <a:avLst/>
          </a:prstGeom>
          <a:noFill/>
          <a:ln w="0">
            <a:noFill/>
          </a:ln>
        </p:spPr>
        <p:txBody>
          <a:bodyPr anchor="t">
            <a:normAutofit/>
          </a:bodyPr>
          <a:p>
            <a:pPr marL="343080" indent="-343080">
              <a:spcBef>
                <a:spcPts val="799"/>
              </a:spcBef>
              <a:spcAft>
                <a:spcPts val="2401"/>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can you do to ensure access &amp; succes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kind of data should we try to gather?</a:t>
            </a:r>
            <a:endParaRPr b="0" lang="en-US" sz="3200" spc="-1" strike="noStrike">
              <a:solidFill>
                <a:srgbClr val="4e3b30"/>
              </a:solidFill>
              <a:latin typeface="Franklin Gothic Book"/>
            </a:endParaRPr>
          </a:p>
          <a:p>
            <a:pPr lvl="1" marL="743040" indent="-2858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Demographic</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Previous arts experience</a:t>
            </a:r>
            <a:endParaRPr b="0" lang="en-US" sz="2800" spc="-1" strike="noStrike">
              <a:solidFill>
                <a:srgbClr val="4e3b30"/>
              </a:solidFill>
              <a:latin typeface="Franklin Gothic Book"/>
            </a:endParaRPr>
          </a:p>
          <a:p>
            <a:pPr lvl="1" marL="743040" indent="-285840">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Feeder schools</a:t>
            </a:r>
            <a:endParaRPr b="0" lang="en-US" sz="2800" spc="-1" strike="noStrike">
              <a:solidFill>
                <a:srgbClr val="4e3b30"/>
              </a:solidFill>
              <a:latin typeface="Franklin Gothic Book"/>
            </a:endParaRPr>
          </a:p>
          <a:p>
            <a:pPr lvl="1" marL="743040" indent="-285840">
              <a:spcBef>
                <a:spcPts val="700"/>
              </a:spcBef>
              <a:spcAft>
                <a:spcPts val="1800"/>
              </a:spcAft>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Other</a:t>
            </a:r>
            <a:endParaRPr b="0" lang="en-US" sz="2800" spc="-1" strike="noStrike">
              <a:solidFill>
                <a:srgbClr val="4e3b30"/>
              </a:solidFill>
              <a:latin typeface="Franklin Gothic Book"/>
            </a:endParaRPr>
          </a:p>
          <a:p>
            <a:pPr marL="343080" indent="-343080">
              <a:spcBef>
                <a:spcPts val="799"/>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What to do with the data once we have it&gt;</a:t>
            </a:r>
            <a:endParaRPr b="0" lang="en-US" sz="3200" spc="-1" strike="noStrike">
              <a:solidFill>
                <a:srgbClr val="4e3b30"/>
              </a:solidFill>
              <a:latin typeface="Franklin Gothic Book"/>
            </a:endParaRPr>
          </a:p>
        </p:txBody>
      </p:sp>
      <p:pic>
        <p:nvPicPr>
          <p:cNvPr id="427" name="Picture 2" descr="C:\Users\egrimes-droessler\AppData\Local\Microsoft\Windows\Temporary Internet Files\Content.IE5\3PSPYZN4\MC900078791[1].wmf"/>
          <p:cNvPicPr/>
          <p:nvPr/>
        </p:nvPicPr>
        <p:blipFill>
          <a:blip r:embed="rId2"/>
          <a:stretch/>
        </p:blipFill>
        <p:spPr>
          <a:xfrm>
            <a:off x="8443800" y="1143000"/>
            <a:ext cx="623880" cy="123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Title 1" descr=""/>
          <p:cNvPicPr/>
          <p:nvPr/>
        </p:nvPicPr>
        <p:blipFill>
          <a:blip r:embed="rId1"/>
          <a:stretch/>
        </p:blipFill>
        <p:spPr>
          <a:xfrm>
            <a:off x="109440" y="457200"/>
            <a:ext cx="8882280" cy="1000080"/>
          </a:xfrm>
          <a:prstGeom prst="rect">
            <a:avLst/>
          </a:prstGeom>
          <a:ln w="0">
            <a:noFill/>
          </a:ln>
        </p:spPr>
      </p:pic>
      <p:sp>
        <p:nvSpPr>
          <p:cNvPr id="429" name=""/>
          <p:cNvSpPr txBox="1"/>
          <p:nvPr/>
        </p:nvSpPr>
        <p:spPr>
          <a:xfrm>
            <a:off x="0" y="1066320"/>
            <a:ext cx="9144000" cy="5867640"/>
          </a:xfrm>
          <a:prstGeom prst="rect">
            <a:avLst/>
          </a:prstGeom>
          <a:noFill/>
          <a:ln w="0">
            <a:noFill/>
          </a:ln>
        </p:spPr>
        <p:txBody>
          <a:bodyPr anchor="t">
            <a:normAutofit fontScale="91000"/>
          </a:bodyPr>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ounty database that lists each art discipline offered by schools – feeders with what programs – data from previous art teacher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aster Schedule data @ MS level – how similar (or not) equal access  - alignment</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Pre-test – post-test scores (academic)– how students do before arts classes </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ttendance – pre/post arts classe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iddle School education in Visual Art consistent in all feeder schools (instructional time, curriculum, expectation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many students who have middle school arts classes are passing vs. those that are not</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ho is teaching arts classes – are they teaching the curriculum?</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The students that need remediation/failures – are they arts student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Determine the “arts” friendly non-arts teacher – those who have minors in Arts disciplines – do community theatre, sing @ church, etc. – can they be advocates – support the arts in their classrooms …</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rts portfolio data from 3</a:t>
            </a:r>
            <a:r>
              <a:rPr b="0" lang="en-US" sz="1400" spc="-1" strike="noStrike" baseline="30000">
                <a:solidFill>
                  <a:srgbClr val="4e3b30"/>
                </a:solidFill>
                <a:latin typeface="Franklin Gothic Book"/>
              </a:rPr>
              <a:t>rd</a:t>
            </a:r>
            <a:r>
              <a:rPr b="0" lang="en-US" sz="1400" spc="-1" strike="noStrike">
                <a:solidFill>
                  <a:srgbClr val="4e3b30"/>
                </a:solidFill>
                <a:latin typeface="Franklin Gothic Book"/>
              </a:rPr>
              <a:t>, 4</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amp; 5</a:t>
            </a:r>
            <a:r>
              <a:rPr b="0" lang="en-US" sz="1400" spc="-1" strike="noStrike" baseline="30000">
                <a:solidFill>
                  <a:srgbClr val="4e3b30"/>
                </a:solidFill>
                <a:latin typeface="Franklin Gothic Book"/>
              </a:rPr>
              <a:t>th</a:t>
            </a:r>
            <a:r>
              <a:rPr b="0" lang="en-US" sz="1400" spc="-1" strike="noStrike">
                <a:solidFill>
                  <a:srgbClr val="4e3b30"/>
                </a:solidFill>
                <a:latin typeface="Franklin Gothic Book"/>
              </a:rPr>
              <a:t> grade for students who are recommended by their elementary school teacher</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many students are currently enrolled in the arts that are at-risk</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many students who are at-risk are currently moving into upper level arts classe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Need to know who is coming &amp; what skills they have</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Data from students – like a checklist of arts already taken </a:t>
            </a:r>
            <a:r>
              <a:rPr b="0" i="1" lang="en-US" sz="1400" spc="-1" strike="noStrike">
                <a:solidFill>
                  <a:srgbClr val="4e3b30"/>
                </a:solidFill>
                <a:latin typeface="Franklin Gothic Book"/>
              </a:rPr>
              <a:t>(ArtsFolio should help thi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hat level of arts courses are offered in other middle school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ho (which students) have a legit need for financial support to participate in arts programs? (legal issues pose a problem)</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Data – feeder schools – who is/isn’t driven in arts courses (weed out ones to make room for those that do)</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many students are force to take CA or other remedial courses who might want to take the arts</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Lists from middle schools with contact info</a:t>
            </a:r>
            <a:endParaRPr b="0" lang="en-US" sz="1400" spc="-1" strike="noStrike">
              <a:solidFill>
                <a:srgbClr val="4e3b30"/>
              </a:solidFill>
              <a:latin typeface="Franklin Gothic Book"/>
            </a:endParaRPr>
          </a:p>
          <a:p>
            <a:pPr marL="312120" indent="-31212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Sometimes we contact Middle Schools &amp; staff drops – even what we get (lists) don’t have phone/email &amp; prior courses</a:t>
            </a:r>
            <a:endParaRPr b="0" lang="en-US"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109440" y="457200"/>
            <a:ext cx="8882280" cy="1000080"/>
          </a:xfrm>
          <a:prstGeom prst="rect">
            <a:avLst/>
          </a:prstGeom>
          <a:ln w="0">
            <a:noFill/>
          </a:ln>
        </p:spPr>
      </p:pic>
      <p:sp>
        <p:nvSpPr>
          <p:cNvPr id="431" name=""/>
          <p:cNvSpPr txBox="1"/>
          <p:nvPr/>
        </p:nvSpPr>
        <p:spPr>
          <a:xfrm>
            <a:off x="0" y="1066320"/>
            <a:ext cx="9144000" cy="5791320"/>
          </a:xfrm>
          <a:prstGeom prst="rect">
            <a:avLst/>
          </a:prstGeom>
          <a:noFill/>
          <a:ln w="0">
            <a:noFill/>
          </a:ln>
        </p:spPr>
        <p:txBody>
          <a:bodyPr anchor="t">
            <a:normAutofit/>
          </a:bodyPr>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Arts teachers with CORE background as well as Core with arts interest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Social worker, counselor, teachers, office data </a:t>
            </a:r>
            <a:r>
              <a:rPr b="0" i="1" lang="en-US" sz="1400" spc="-1" strike="noStrike">
                <a:solidFill>
                  <a:srgbClr val="4e3b30"/>
                </a:solidFill>
                <a:latin typeface="Franklin Gothic Book"/>
              </a:rPr>
              <a:t>(I need more clarification on thi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to get arts teachers in touch with serious arts student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Personal interest data from arts students interested in careers in the art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often students are taking art within the school year</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Cross school arts programs – evaluation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Which students participated in the elective in feeder schools (recruit them &amp; they will spread the word)</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More guidance for counselors/data managers to better organize schedule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do schools allow elective choices?</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Franklin Gothic Book"/>
              </a:rPr>
              <a:t>How many kids have been active arts students in elementary but had nothing in middle school?</a:t>
            </a:r>
            <a:endParaRPr b="0" lang="en-US" sz="1400" spc="-1" strike="noStrike">
              <a:solidFill>
                <a:srgbClr val="4e3b30"/>
              </a:solidFill>
              <a:latin typeface="Franklin Gothic Book"/>
            </a:endParaRPr>
          </a:p>
          <a:p>
            <a:pPr marL="343080" indent="-343080">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7:28:45Z</dcterms:created>
  <dc:creator>Elizabeth Droessler</dc:creator>
  <dc:description/>
  <dc:language>en-US</dc:language>
  <cp:lastModifiedBy>Elizabeth Droessler</cp:lastModifiedBy>
  <cp:lastPrinted>2013-09-17T16:57:23Z</cp:lastPrinted>
  <dcterms:modified xsi:type="dcterms:W3CDTF">2013-09-18T11:57:17Z</dcterms:modified>
  <cp:revision>52</cp:revision>
  <dc:subject/>
  <dc:title>Secondary Arts  Department Chairs</dc:title>
</cp:coreProperties>
</file>